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717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1E4-0BC1-456D-A6A9-2A45F944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67989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95600"/>
            <a:ext cx="67989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455-7918-4BF1-AD36-C6F6F665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956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61956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387-2DB2-4EC1-9682-99D3EB9B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6960" y="25002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5920" y="25002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956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6960" y="61956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5920" y="61956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B54-6571-4C09-BB8B-98B1F024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500200"/>
            <a:ext cx="6798960" cy="70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64E-A4AE-454D-89AB-B4A0FD0F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67989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853-DD95-4659-9ED4-2BA0A345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A5C-1B7E-4A7A-B362-18A54FC2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375-E7FA-4EAA-8DD6-21DDCC2C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798960" cy="82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1D7-1562-422A-8470-9EAE671A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956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DCF-8CE3-4941-9159-B9F09BFA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61956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2B4-DFF9-48CC-BB34-74D129AB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95600"/>
            <a:ext cx="67989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3E4-D700-409B-894B-40969792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500200"/>
            <a:ext cx="67989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9761040"/>
            <a:ext cx="176184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1200" y="9761040"/>
            <a:ext cx="239256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5120" y="9761040"/>
            <a:ext cx="176184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92A2-BC50-4B1D-B6AF-89C0CD6F5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0560" y="716040"/>
            <a:ext cx="6003720" cy="859140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5840" algn="just">
              <a:lnSpc>
                <a:spcPts val="16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24242"/>
                </a:solidFill>
                <a:latin typeface="Times New Roman"/>
              </a:rPr>
              <a:t>Тихорецкий инспекторский </a:t>
            </a: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участок Центра ГИМС МЧС России по Краснодарскому краю создан и осуществляет свою деятельность в соответствии с Постановлением Правительства Российской Федерации от 24 декабря 2004 года № 835, Положением о Тихорецком инспекторском участке и другими ведомственными документами МЧС России, зарегистрированными в Министерстве юсти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103480">
              <a:lnSpc>
                <a:spcPts val="1610"/>
              </a:lnSpc>
              <a:spcBef>
                <a:spcPts val="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Выписка из функци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840" algn="just">
              <a:lnSpc>
                <a:spcPts val="161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1. осуществление в установленном порядке государственной регистрации, учета, и проведение первичного и ежегодного технического освидетельствования и осмотров маломерных судов, присвоение им государственных (бортовых) номеров, выдачу судовых билетов и иных документов на зарегистрированные маломерные суд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8589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Государственной регистрации подлежа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840" algn="just">
              <a:lnSpc>
                <a:spcPts val="2061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гребные лодки грузоподъемностью 100 и более килограммов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840">
              <a:lnSpc>
                <a:spcPts val="2086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-</a:t>
            </a:r>
            <a:r>
              <a:rPr b="0" lang="ru-RU" sz="1900" spc="-1" strike="noStrike">
                <a:solidFill>
                  <a:srgbClr val="424242"/>
                </a:solidFill>
                <a:latin typeface="Times New Roman"/>
              </a:rPr>
              <a:t>   </a:t>
            </a: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надувные лодки грузоподъемностью 225 и более килограмм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600">
              <a:lnSpc>
                <a:spcPts val="2086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-</a:t>
            </a:r>
            <a:r>
              <a:rPr b="0" lang="ru-RU" sz="1900" spc="-1" strike="noStrike">
                <a:solidFill>
                  <a:srgbClr val="424242"/>
                </a:solidFill>
                <a:latin typeface="Times New Roman"/>
              </a:rPr>
              <a:t>  </a:t>
            </a: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моторные лодки независимо от грузоподъемности и мощности двигател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600">
              <a:lnSpc>
                <a:spcPts val="2112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242"/>
                </a:solidFill>
                <a:latin typeface="Times New Roman"/>
              </a:rPr>
              <a:t>- водные мотоциклы (гидроциклы) и несамоходные суда вместимостью менее 80 тон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600">
              <a:lnSpc>
                <a:spcPts val="2035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242"/>
                </a:solidFill>
                <a:latin typeface="Times New Roman"/>
              </a:rPr>
              <a:t>- прогулочные суда пассажировместимостью не более 12 человек независимо от мощности главных двигателей и вместим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1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2. осуществление аттестации и выдачи удостоверений на право управления маломерными судами, регистрационных и иных документов, необходимых для допуска маломерных судов и судоводителей к участию в плаван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Лица управляющие маломерными судами незарегистрированными в установленном порядке, а так же допускающие при управлении ими нарушения действующего законодательства несут ответственность в соответствии со статьями </a:t>
            </a:r>
            <a:r>
              <a:rPr b="1" lang="ru-RU" sz="1500" spc="-1" strike="noStrike" u="sng">
                <a:solidFill>
                  <a:srgbClr val="424242"/>
                </a:solidFill>
                <a:uFillTx/>
                <a:latin typeface="Times New Roman"/>
              </a:rPr>
              <a:t>11.7 </a:t>
            </a:r>
            <a:r>
              <a:rPr b="0" lang="ru-RU" sz="1500" spc="-1" strike="noStrike" u="sng">
                <a:solidFill>
                  <a:srgbClr val="424242"/>
                </a:solidFill>
                <a:uFillTx/>
                <a:latin typeface="Times New Roman"/>
              </a:rPr>
              <a:t>— </a:t>
            </a:r>
            <a:r>
              <a:rPr b="1" lang="ru-RU" sz="1500" spc="-1" strike="noStrike" u="sng">
                <a:solidFill>
                  <a:srgbClr val="424242"/>
                </a:solidFill>
                <a:uFillTx/>
                <a:latin typeface="Times New Roman"/>
              </a:rPr>
              <a:t>11.13</a:t>
            </a:r>
            <a:r>
              <a:rPr b="1" lang="ru-RU" sz="1500" spc="-1" strike="noStrike">
                <a:solidFill>
                  <a:srgbClr val="424242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Кодекса административных правонарушен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2:24:27Z</dcterms:created>
  <dc:creator>Sanya</dc:creator>
  <dc:description/>
  <dc:language>en-US</dc:language>
  <cp:lastModifiedBy>Sanya</cp:lastModifiedBy>
  <dcterms:modified xsi:type="dcterms:W3CDTF">2011-05-18T12:25:07Z</dcterms:modified>
  <cp:revision>1</cp:revision>
  <dc:subject/>
  <dc:title>Слайд 1</dc:title>
</cp:coreProperties>
</file>