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39038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759-82DD-42E6-B1C0-C2AD9B93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5840" y="428400"/>
            <a:ext cx="6784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5840" y="2494080"/>
            <a:ext cx="678492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5840" y="6179040"/>
            <a:ext cx="678492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F05-E9C2-493E-9D77-14FE83E4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5840" y="428400"/>
            <a:ext cx="6784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5840" y="2494080"/>
            <a:ext cx="331092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2720" y="2494080"/>
            <a:ext cx="331092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5840" y="6179040"/>
            <a:ext cx="331092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2720" y="6179040"/>
            <a:ext cx="331092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AE2-33C1-42B2-9781-BDC9F716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5840" y="428400"/>
            <a:ext cx="6784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5840" y="2494080"/>
            <a:ext cx="21844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69760" y="2494080"/>
            <a:ext cx="21844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64040" y="2494080"/>
            <a:ext cx="21844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5840" y="6179040"/>
            <a:ext cx="21844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69760" y="6179040"/>
            <a:ext cx="21844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64040" y="6179040"/>
            <a:ext cx="21844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CDC3-927A-4218-96D2-D6C67498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5840" y="428400"/>
            <a:ext cx="6784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5840" y="2494080"/>
            <a:ext cx="678492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C13-2EAB-4F00-B3EF-E3A846F1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5840" y="428400"/>
            <a:ext cx="6784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5840" y="2494080"/>
            <a:ext cx="6784920" cy="70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898-6295-41AC-B502-45662CBA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5840" y="428400"/>
            <a:ext cx="6784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5840" y="2494080"/>
            <a:ext cx="3310920" cy="70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2720" y="2494080"/>
            <a:ext cx="3310920" cy="70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EF2-72ED-4ED6-9497-3538EEF2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5840" y="428400"/>
            <a:ext cx="6784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D24-4829-4214-8864-AC02B548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5840" y="428400"/>
            <a:ext cx="678492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597-C332-40D8-BE29-B17E5A60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5840" y="428400"/>
            <a:ext cx="6784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5840" y="2494080"/>
            <a:ext cx="331092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2720" y="2494080"/>
            <a:ext cx="3310920" cy="70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5840" y="6179040"/>
            <a:ext cx="331092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5A0-1FAE-4C42-8649-9A4F6D72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5840" y="428400"/>
            <a:ext cx="6784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5840" y="2494080"/>
            <a:ext cx="3310920" cy="70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2720" y="2494080"/>
            <a:ext cx="331092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2720" y="6179040"/>
            <a:ext cx="331092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01C5-82EB-4F28-8BAF-4FC283FE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5840" y="428400"/>
            <a:ext cx="6784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5840" y="2494080"/>
            <a:ext cx="331092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2720" y="2494080"/>
            <a:ext cx="331092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5840" y="6179040"/>
            <a:ext cx="678492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D4C-C749-42AC-A63D-B0B179BC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5840" y="428400"/>
            <a:ext cx="6784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5840" y="2494080"/>
            <a:ext cx="6784920" cy="70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6200" y="9732960"/>
            <a:ext cx="17589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75080" y="9732960"/>
            <a:ext cx="2387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02160" y="9732960"/>
            <a:ext cx="17589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717C-8CD5-4315-8990-89267CD25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7760" y="228600"/>
            <a:ext cx="5794560" cy="53964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c4c4c"/>
                </a:solidFill>
                <a:latin typeface="Times New Roman"/>
              </a:rPr>
              <a:t>ДОГОВОР КУПЛИ - ПРОДАЖИ МАЛОМЕРНЫХ СУ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12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c4c4c"/>
                </a:solidFill>
                <a:latin typeface="Times New Roman"/>
              </a:rPr>
              <a:t>И ПОДВЕСНЫХ ЛОДОЧНЫХ МОТОРОВ </a:t>
            </a:r>
            <a:r>
              <a:rPr b="1" lang="en-US" sz="1200" spc="-1" strike="noStrike">
                <a:solidFill>
                  <a:srgbClr val="4c4c4c"/>
                </a:solidFill>
                <a:latin typeface="Times New Roman"/>
              </a:rPr>
              <a:t>ПРИНАДЛЕЖАЩИХ ГРАЖДАНАМ НА ПРАВАХ ЛИЧ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392120"/>
            <a:ext cx="7003800" cy="10980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 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1566720"/>
            <a:ext cx="1974600" cy="9540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место составлени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28480" y="1671480"/>
          <a:ext cx="6696360" cy="2795760"/>
        </p:xfrm>
        <a:graphic>
          <a:graphicData uri="http://schemas.openxmlformats.org/drawingml/2006/table">
            <a:tbl>
              <a:tblPr/>
              <a:tblGrid>
                <a:gridCol w="2873520"/>
                <a:gridCol w="3822840"/>
              </a:tblGrid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marL="1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живающий (ая) по адре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1908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спорт серии но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1764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4c4c"/>
                          </a:solidFill>
                          <a:latin typeface="Times New Roman"/>
                        </a:rPr>
                        <a:t>выд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1034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число, месяц, год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0" rIns="0" tIns="0" bIns="0" anchor="t">
                      <a:noAutofit/>
                    </a:bodyPr>
                    <a:p>
                      <a:pPr marL="15840">
                        <a:lnSpc>
                          <a:spcPct val="100000"/>
                        </a:lnSpc>
                        <a:spcBef>
                          <a:spcPts val="28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ал (а) мотолодку, мотор, лодку, г/цикл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2840">
                        <a:lnSpc>
                          <a:spcPct val="100000"/>
                        </a:lnSpc>
                        <a:spcBef>
                          <a:spcPts val="28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тер (нужное подчеркнуть) гражданину (к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1584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, месяц, год р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0632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живающему (ей) по адре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936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4c4c"/>
                          </a:solidFill>
                          <a:latin typeface="Times New Roman"/>
                        </a:rPr>
                        <a:t>паспорт серии но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8748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д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10024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число, месяц, год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517680" y="4592520"/>
            <a:ext cx="5068800" cy="31140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толодка, лодка, г/цикл, катер (нужное подчеркнуть) тип:_________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д выпуска_____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      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одской ном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                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борт, но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7680" y="5297400"/>
            <a:ext cx="6648120" cy="63684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тор: подвесной, стационарный (нужное подчеркнуть) тип: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. с._______год выпуска_____________заводской номер__________________________судовой би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480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ер___ ____________выдан_______________________________отделением (участком) ГИМ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40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        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                                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440" y="6593040"/>
            <a:ext cx="5959440" cy="118584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240">
              <a:lnSpc>
                <a:spcPts val="16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До настоящего времени все государственные сборы и налоги, положенные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480">
              <a:lnSpc>
                <a:spcPts val="161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маломерные суда, уплачены, недоимки и пени не име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ПРЕТЕНЗИЙ ДРУГ К ДРУГУ НЕ ИМЕ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240">
              <a:lnSpc>
                <a:spcPts val="16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При возникновении претензий, всё решается в порядке, установлен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240">
              <a:lnSpc>
                <a:spcPts val="16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законодательством Российской Фед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240">
              <a:lnSpc>
                <a:spcPts val="161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Срок действия договора начинается с даты его подпис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7680" y="8335800"/>
            <a:ext cx="7019640" cy="14004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c4c4c"/>
                </a:solidFill>
                <a:latin typeface="Times New Roman"/>
              </a:rPr>
              <a:t>ПРОДАЛ (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33640" y="8507520"/>
            <a:ext cx="5505480" cy="9180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Ф.И.О./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                                    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РОСПИСЬ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4440" y="9012240"/>
            <a:ext cx="7022880" cy="13644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УПИЛ (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41560" y="9180360"/>
            <a:ext cx="5495760" cy="9216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 Ф.И.О. /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                                             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 РОСПИСЬ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4440" y="9799560"/>
            <a:ext cx="7022880" cy="13356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писи сторон удостоверя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1:54:44Z</dcterms:created>
  <dc:creator>Sanya</dc:creator>
  <dc:description/>
  <dc:language>en-US</dc:language>
  <cp:lastModifiedBy>Sanya</cp:lastModifiedBy>
  <dcterms:modified xsi:type="dcterms:W3CDTF">2011-05-18T11:56:29Z</dcterms:modified>
  <cp:revision>1</cp:revision>
  <dc:subject/>
  <dc:title>Слайд 1</dc:title>
</cp:coreProperties>
</file>