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42213" cy="107092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13EE-1C68-4E3E-8AB5-036DA68E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7640" y="428760"/>
            <a:ext cx="67863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7640" y="2498760"/>
            <a:ext cx="678636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7640" y="6190560"/>
            <a:ext cx="678636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56EC-102F-43ED-9902-D4E9CC49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7640" y="428760"/>
            <a:ext cx="67863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7640" y="2498760"/>
            <a:ext cx="331164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5240" y="2498760"/>
            <a:ext cx="331164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7640" y="6190560"/>
            <a:ext cx="331164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5240" y="6190560"/>
            <a:ext cx="331164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8CF-CFB6-49B1-8A3C-7867481C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7640" y="428760"/>
            <a:ext cx="67863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7640" y="2498760"/>
            <a:ext cx="218484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2280" y="2498760"/>
            <a:ext cx="218484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66560" y="2498760"/>
            <a:ext cx="218484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7640" y="6190560"/>
            <a:ext cx="218484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2280" y="6190560"/>
            <a:ext cx="218484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66560" y="6190560"/>
            <a:ext cx="218484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846-1B83-4698-9974-DFFAD965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7640" y="428760"/>
            <a:ext cx="67863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7640" y="2498760"/>
            <a:ext cx="6786360" cy="70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FE3C-73E6-42B6-ABF1-A86B4AD1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7640" y="428760"/>
            <a:ext cx="67863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7640" y="2498760"/>
            <a:ext cx="6786360" cy="70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9CCD-2760-428D-ABF0-E4A38A49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7640" y="428760"/>
            <a:ext cx="67863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7640" y="2498760"/>
            <a:ext cx="3311640" cy="70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5240" y="2498760"/>
            <a:ext cx="3311640" cy="70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3E2-F55E-4CB3-9F6D-01ED4F21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7640" y="428760"/>
            <a:ext cx="67863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9256-85DA-43FA-9001-F0B18863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7640" y="428760"/>
            <a:ext cx="6786360" cy="82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A7D7-D222-44CF-A18B-C5C4E6AD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7640" y="428760"/>
            <a:ext cx="67863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7640" y="2498760"/>
            <a:ext cx="331164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5240" y="2498760"/>
            <a:ext cx="3311640" cy="70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7640" y="6190560"/>
            <a:ext cx="331164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2B2-1EBE-4616-AC8D-916BAEC7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7640" y="428760"/>
            <a:ext cx="67863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7640" y="2498760"/>
            <a:ext cx="3311640" cy="70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5240" y="2498760"/>
            <a:ext cx="331164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5240" y="6190560"/>
            <a:ext cx="331164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9889-50E9-4D68-9188-E2778999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7640" y="428760"/>
            <a:ext cx="67863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7640" y="2498760"/>
            <a:ext cx="331164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5240" y="2498760"/>
            <a:ext cx="331164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7640" y="6190560"/>
            <a:ext cx="678636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570-FD5D-4DC8-8D7E-CDC1733A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7640" y="428760"/>
            <a:ext cx="67863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7640" y="2498760"/>
            <a:ext cx="6786360" cy="70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52040"/>
            <a:ext cx="1758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76520" y="9752040"/>
            <a:ext cx="2387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03960" y="9752040"/>
            <a:ext cx="17604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7757-A3A5-4344-A7C6-EAC00EE33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9560" y="399960"/>
            <a:ext cx="6483240" cy="54612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e4e4e"/>
                </a:solidFill>
                <a:latin typeface="Times New Roman"/>
              </a:rPr>
              <a:t>Документы, предоставляемые для регистр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835280">
              <a:lnSpc>
                <a:spcPts val="1874"/>
              </a:lnSpc>
              <a:spcBef>
                <a:spcPts val="5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e4e4e"/>
                </a:solidFill>
                <a:latin typeface="Times New Roman"/>
              </a:rPr>
              <a:t>маломерного судна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52320" y="1616040"/>
          <a:ext cx="6559560" cy="8491680"/>
        </p:xfrm>
        <a:graphic>
          <a:graphicData uri="http://schemas.openxmlformats.org/drawingml/2006/table">
            <a:tbl>
              <a:tblPr/>
              <a:tblGrid>
                <a:gridCol w="3279960"/>
                <a:gridCol w="3279600"/>
              </a:tblGrid>
              <a:tr h="1322280">
                <a:tc>
                  <a:txBody>
                    <a:bodyPr lIns="0" rIns="0" tIns="0" bIns="0" anchor="t">
                      <a:noAutofit/>
                    </a:bodyPr>
                    <a:p>
                      <a:pPr marL="122400" indent="9360">
                        <a:lnSpc>
                          <a:spcPts val="1636"/>
                        </a:lnSpc>
                        <a:spcBef>
                          <a:spcPts val="20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e4e4e"/>
                          </a:solidFill>
                          <a:latin typeface="Times New Roman"/>
                        </a:rPr>
                        <a:t>Новая регистрация гребного или моторного судна </a:t>
                      </a:r>
                      <a:r>
                        <a:rPr b="0" i="1" lang="en-US" sz="1400" spc="-1" strike="noStrike">
                          <a:solidFill>
                            <a:srgbClr val="4e4e4e"/>
                          </a:solidFill>
                          <a:latin typeface="Times New Roman"/>
                        </a:rPr>
                        <a:t>индивидуальной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рой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>
                        <a:lnSpc>
                          <a:spcPts val="161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e4e4e"/>
                          </a:solidFill>
                          <a:latin typeface="Times New Roman"/>
                        </a:rPr>
                        <a:t>1. Документ, удостоверяющий личность владельца (паспорт) 2. Акт технического освидетельствования судна. 3. Квитанция о внесении платы за регистрац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27680">
                <a:tc>
                  <a:txBody>
                    <a:bodyPr lIns="0" rIns="0" tIns="0" bIns="0" anchor="t">
                      <a:noAutofit/>
                    </a:bodyPr>
                    <a:p>
                      <a:pPr lvl="1" marL="115920" indent="9360">
                        <a:lnSpc>
                          <a:spcPts val="161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e4e4e"/>
                          </a:solidFill>
                          <a:latin typeface="Times New Roman"/>
                        </a:rPr>
                        <a:t>Новая регистрация гребного или моторного судна </a:t>
                      </a:r>
                      <a:r>
                        <a:rPr b="0" i="1" lang="ru-RU" sz="1400" spc="-1" strike="noStrike">
                          <a:solidFill>
                            <a:srgbClr val="4e4e4e"/>
                          </a:solidFill>
                          <a:latin typeface="Times New Roman"/>
                        </a:rPr>
                        <a:t>промышленного изготовления (заводской), </a:t>
                      </a:r>
                      <a:r>
                        <a:rPr b="0" lang="ru-RU" sz="1400" spc="-1" strike="noStrike">
                          <a:solidFill>
                            <a:srgbClr val="4e4e4e"/>
                          </a:solidFill>
                          <a:latin typeface="Times New Roman"/>
                        </a:rPr>
                        <a:t>и для </a:t>
                      </a:r>
                      <a:r>
                        <a:rPr b="1" lang="ru-RU" sz="1400" spc="-1" strike="noStrike">
                          <a:solidFill>
                            <a:srgbClr val="4e4e4e"/>
                          </a:solidFill>
                          <a:latin typeface="Times New Roman"/>
                        </a:rPr>
                        <a:t>сдов </a:t>
                      </a:r>
                      <a:r>
                        <a:rPr b="0" lang="ru-RU" sz="1400" spc="-1" strike="noStrike">
                          <a:solidFill>
                            <a:srgbClr val="4e4e4e"/>
                          </a:solidFill>
                          <a:latin typeface="Times New Roman"/>
                        </a:rPr>
                        <a:t>и моторов импортного производства купленных </a:t>
                      </a:r>
                      <a:r>
                        <a:rPr b="1" lang="ru-RU" sz="1400" spc="-1" strike="noStrike">
                          <a:solidFill>
                            <a:srgbClr val="4e4e4e"/>
                          </a:solidFill>
                          <a:latin typeface="Times New Roman"/>
                        </a:rPr>
                        <a:t>в </a:t>
                      </a:r>
                      <a:r>
                        <a:rPr b="0" lang="ru-RU" sz="1400" spc="-1" strike="noStrike">
                          <a:solidFill>
                            <a:srgbClr val="4e4e4e"/>
                          </a:solidFill>
                          <a:latin typeface="Times New Roman"/>
                        </a:rPr>
                        <a:t>магазинах или торговых организациях на </a:t>
                      </a:r>
                      <a:r>
                        <a:rPr b="1" lang="ru-RU" sz="1400" spc="-1" strike="noStrike">
                          <a:solidFill>
                            <a:srgbClr val="4e4e4e"/>
                          </a:solidFill>
                          <a:latin typeface="Times New Roman"/>
                        </a:rPr>
                        <a:t>територии </a:t>
                      </a:r>
                      <a:r>
                        <a:rPr b="0" lang="ru-RU" sz="1400" spc="-1" strike="noStrike">
                          <a:solidFill>
                            <a:srgbClr val="4e4e4e"/>
                          </a:solidFill>
                          <a:latin typeface="Times New Roman"/>
                        </a:rPr>
                        <a:t>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e4e4e"/>
                          </a:solidFill>
                          <a:latin typeface="Times New Roman"/>
                        </a:rPr>
                        <a:t>Для судов и моторов им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5920">
                        <a:lnSpc>
                          <a:spcPts val="161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e4e4e"/>
                          </a:solidFill>
                          <a:latin typeface="Times New Roman"/>
                        </a:rPr>
                        <a:t>ПРОИЗВОДСТВА, ВВЕЗЕННЫХ ИЗ-ЗА РУБЕЖ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>
                        <a:lnSpc>
                          <a:spcPts val="161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e4e4e"/>
                          </a:solidFill>
                          <a:latin typeface="Times New Roman"/>
                        </a:rPr>
                        <a:t>1. Документ, удостоверяющий личность владельца (паспорт) 2. Документы, подтверждающие законность приобретения судна или мотора (Договор купли -продажи или дарения, техпаспорт, накладная, счет-справка, платежные документы) 3. Таможенная декларация (форма ТД-6) 4. Квитанция о внесении платы за регистрац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498320">
                <a:tc>
                  <a:txBody>
                    <a:bodyPr lIns="0" rIns="0" tIns="0" bIns="0" anchor="t">
                      <a:noAutofit/>
                    </a:bodyPr>
                    <a:p>
                      <a:pPr marL="119160" indent="-12960">
                        <a:lnSpc>
                          <a:spcPts val="1587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e4e4e"/>
                          </a:solidFill>
                          <a:latin typeface="Times New Roman"/>
                        </a:rPr>
                        <a:t>ДЛЯ ВСТУПЛЕНИЕ В ПРАВА НА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ts val="161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e4e4e"/>
                          </a:solidFill>
                          <a:latin typeface="Times New Roman"/>
                        </a:rPr>
                        <a:t>1. Документ, удостоверяющий личность владельца (паспорт) 2. Свидетельство о праве на наследство по закону. 3. Судовой билет 4. Квитанция о внесении платы 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98440">
                        <a:lnSpc>
                          <a:spcPct val="10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e4e4e"/>
                          </a:solidFill>
                          <a:latin typeface="Times New Roman"/>
                        </a:rPr>
                        <a:t>РЕГИСТРАЦИЮ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3400">
                <a:tc>
                  <a:txBody>
                    <a:bodyPr lIns="0" rIns="0" tIns="0" bIns="0" anchor="t">
                      <a:noAutofit/>
                    </a:bodyPr>
                    <a:p>
                      <a:pPr marL="115920" indent="-6480">
                        <a:lnSpc>
                          <a:spcPts val="1610"/>
                        </a:lnSpc>
                        <a:spcBef>
                          <a:spcPts val="50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e4e4e"/>
                          </a:solidFill>
                          <a:latin typeface="Times New Roman"/>
                        </a:rPr>
                        <a:t>Перерегистрация (Смена владельца) моторного или гребного судн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0480">
                        <a:lnSpc>
                          <a:spcPts val="1587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e4e4e"/>
                          </a:solidFill>
                          <a:latin typeface="Times New Roman"/>
                        </a:rPr>
                        <a:t>Продавец: 1. Документ, удостоверяющий личность владельца (паспорт) 2. Судовой билет 3. Квитанция о внесении платы за снятие с регистрации. Покупатель: 1. Документ, удостоверяющий личность владельца (паспорт) 2. Квитанция о внесении платы за регистрац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2:01:32Z</dcterms:created>
  <dc:creator>Sanya</dc:creator>
  <dc:description/>
  <dc:language>en-US</dc:language>
  <cp:lastModifiedBy>Sanya</cp:lastModifiedBy>
  <dcterms:modified xsi:type="dcterms:W3CDTF">2011-05-18T12:03:13Z</dcterms:modified>
  <cp:revision>1</cp:revision>
  <dc:subject/>
  <dc:title>Слайд 1</dc:title>
</cp:coreProperties>
</file>