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61288" cy="10847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F9D-2834-4969-BA0B-D295DDB3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45C-9B59-4440-95B0-4E8B9768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490-7DA4-469A-824B-05AEF883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86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056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70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86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056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F5E-AC21-4B07-817F-624834F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57D-1354-432D-AB7D-A44108C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946-03CF-487F-BD3F-391F506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E9B-FBE5-4F2D-8E94-7C92FFFE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472-AC76-47DC-BD81-5658E5D5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000" y="434520"/>
            <a:ext cx="698508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E78-1C38-443B-8C9B-F001609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0A5-C337-4115-B6DF-87805ED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054-7988-49FA-9DAA-4A31BF0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C75-1732-4C0E-AF10-C0B11FA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000" y="9876960"/>
            <a:ext cx="18111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1040" y="9876960"/>
            <a:ext cx="24573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60920" y="9876960"/>
            <a:ext cx="18115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B2C-A5BF-4D47-88B1-A040DD46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8520" y="225360"/>
            <a:ext cx="3429000" cy="31752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Адреса и телефоны подразделений Центра ГИМС МЧС России по Краснодарск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01760" y="701640"/>
          <a:ext cx="6919920" cy="10509120"/>
        </p:xfrm>
        <a:graphic>
          <a:graphicData uri="http://schemas.openxmlformats.org/drawingml/2006/table">
            <a:tbl>
              <a:tblPr/>
              <a:tblGrid>
                <a:gridCol w="452160"/>
                <a:gridCol w="1627200"/>
                <a:gridCol w="1133640"/>
                <a:gridCol w="1590480"/>
                <a:gridCol w="586080"/>
                <a:gridCol w="153036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я и уча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ш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2532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ужебный 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ос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аснод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алушка 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63, г. Краснод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6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19-36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арусная,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14-84-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05-4946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ЙСКОЕ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енис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680, г. Ейск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3-53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йская к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43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м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890, г. 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6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93-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ХТ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хтарск, ул. 5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0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-95-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ль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ктября, 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4354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ЕМРЮ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гу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20, г. Темрю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9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5-40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Береговая,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яли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АВЯ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ч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60, г. Славянс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3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-8-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30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а-Куб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Набережная, 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ПСКИЙ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40, г. Ана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Набережная,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749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лекс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ОВОРОССИЙ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ло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90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0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55-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Новоросс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5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ул. Первомайская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ЕЛЕНДЖИКСК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Жур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6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5-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7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Гелендж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26-15 сп.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ладими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Революционная,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5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8-961-5135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УАПС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п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1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800,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93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82-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Мих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олетаева, 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604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'ир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152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О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фре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4000, г. С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8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97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-10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Горького, 38, к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2076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ет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има 89182020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ИХОРЕ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Загоруй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28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212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4-13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1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Тихор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1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70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Энгельса, 76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ОПОТК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улгаф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13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22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ит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Кропот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368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алер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ртур 8918-43726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АЛИН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Яриш 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26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704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-666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тол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. Старовеличк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211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^Придорожный,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1:34:09Z</dcterms:created>
  <dc:creator>Sanya</dc:creator>
  <dc:description/>
  <dc:language>en-US</dc:language>
  <cp:lastModifiedBy>Sanya</cp:lastModifiedBy>
  <dcterms:modified xsi:type="dcterms:W3CDTF">2011-05-18T11:34:31Z</dcterms:modified>
  <cp:revision>1</cp:revision>
  <dc:subject/>
  <dc:title>Слайд 1</dc:title>
</cp:coreProperties>
</file>