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7505700" cy="106807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D85B12-C6F9-4801-8477-DB65A98DA4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74400" y="426960"/>
            <a:ext cx="6754680" cy="178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74400" y="2492280"/>
            <a:ext cx="6754680" cy="33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74400" y="6174720"/>
            <a:ext cx="6754680" cy="33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EA72D-68CA-4749-9B55-CA144596E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74400" y="426960"/>
            <a:ext cx="6754680" cy="178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74400" y="2492280"/>
            <a:ext cx="3296160" cy="33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835800" y="2492280"/>
            <a:ext cx="3296160" cy="33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74400" y="6174720"/>
            <a:ext cx="3296160" cy="33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835800" y="6174720"/>
            <a:ext cx="3296160" cy="33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D38B0E-7103-4D63-8D7C-5ECD44D599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74400" y="426960"/>
            <a:ext cx="6754680" cy="178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74400" y="2492280"/>
            <a:ext cx="2174760" cy="33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658240" y="2492280"/>
            <a:ext cx="2174760" cy="33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942080" y="2492280"/>
            <a:ext cx="2174760" cy="33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74400" y="6174720"/>
            <a:ext cx="2174760" cy="33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658240" y="6174720"/>
            <a:ext cx="2174760" cy="33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942080" y="6174720"/>
            <a:ext cx="2174760" cy="33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7B9E19-BD8A-44FE-8275-15FAF05D71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74400" y="426960"/>
            <a:ext cx="6754680" cy="178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74400" y="2492280"/>
            <a:ext cx="6754680" cy="7050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CCC88-7039-47E9-AD6C-A15903A0F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74400" y="426960"/>
            <a:ext cx="6754680" cy="178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74400" y="2492280"/>
            <a:ext cx="6754680" cy="705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C065B-4D46-4221-B234-FD2EE5C2B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74400" y="426960"/>
            <a:ext cx="6754680" cy="178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74400" y="2492280"/>
            <a:ext cx="3296160" cy="705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835800" y="2492280"/>
            <a:ext cx="3296160" cy="705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2E45E-1657-4603-8993-EB08EDCC0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74400" y="426960"/>
            <a:ext cx="6754680" cy="178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E75EA-C0FA-4E6C-B7E6-418A58759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74400" y="426960"/>
            <a:ext cx="6754680" cy="8258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D531F-34C9-4371-BC9C-51017CC92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74400" y="426960"/>
            <a:ext cx="6754680" cy="178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74400" y="2492280"/>
            <a:ext cx="3296160" cy="33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835800" y="2492280"/>
            <a:ext cx="3296160" cy="705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74400" y="6174720"/>
            <a:ext cx="3296160" cy="33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9DDC5-907D-4F74-BD4F-C86FA6511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74400" y="426960"/>
            <a:ext cx="6754680" cy="178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74400" y="2492280"/>
            <a:ext cx="3296160" cy="705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835800" y="2492280"/>
            <a:ext cx="3296160" cy="33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835800" y="6174720"/>
            <a:ext cx="3296160" cy="33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B02F9-209A-4DEF-9E0E-7EE293BDA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74400" y="426960"/>
            <a:ext cx="6754680" cy="178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74400" y="2492280"/>
            <a:ext cx="3296160" cy="33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835800" y="2492280"/>
            <a:ext cx="3296160" cy="33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74400" y="6174720"/>
            <a:ext cx="6754680" cy="33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D02C0-366C-4422-9041-C166C6CACE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74400" y="426960"/>
            <a:ext cx="6754680" cy="178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74400" y="2492280"/>
            <a:ext cx="6754680" cy="7050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74760" y="9727920"/>
            <a:ext cx="1751040" cy="74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563560" y="9727920"/>
            <a:ext cx="2376360" cy="74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5378400" y="9727920"/>
            <a:ext cx="1751040" cy="74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92856-F086-4EFA-8EEB-8638EEDCF2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 name=""/>
          <p:cNvGraphicFramePr/>
          <p:nvPr/>
        </p:nvGraphicFramePr>
        <p:xfrm>
          <a:off x="407880" y="298440"/>
          <a:ext cx="6645240" cy="3408480"/>
        </p:xfrm>
        <a:graphic>
          <a:graphicData uri="http://schemas.openxmlformats.org/drawingml/2006/table">
            <a:tbl>
              <a:tblPr/>
              <a:tblGrid>
                <a:gridCol w="354240"/>
                <a:gridCol w="2743200"/>
                <a:gridCol w="1706400"/>
                <a:gridCol w="1841400"/>
              </a:tblGrid>
              <a:tr h="371520">
                <a:tc>
                  <a:txBody>
                    <a:bodyPr lIns="0" rIns="0" tIns="0" bIns="0" anchor="t">
                      <a:noAutofit/>
                    </a:bodyPr>
                    <a:p>
                      <a:pPr marL="88920" indent="27000">
                        <a:lnSpc>
                          <a:spcPts val="1412"/>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п/п</a:t>
                      </a:r>
                      <a:endParaRPr b="0" lang="en-US" sz="11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423720" indent="33480">
                        <a:lnSpc>
                          <a:spcPts val="1386"/>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Наименование организации, осуществляющей подготовку</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82440">
                        <a:lnSpc>
                          <a:spcPts val="1412"/>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Фамилия, имя, отчество руководителя</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244440">
                        <a:lnSpc>
                          <a:spcPts val="1386"/>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Юридический адрес, телефон</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r>
              <a:tr h="536400">
                <a:tc>
                  <a:txBody>
                    <a:bodyPr lIns="0" rIns="0" tIns="0" bIns="0" anchor="t">
                      <a:noAutofit/>
                    </a:bodyPr>
                    <a:p>
                      <a:pPr marL="343080" indent="-343080" algn="r">
                        <a:lnSpc>
                          <a:spcPct val="100000"/>
                        </a:lnSpc>
                        <a:spcBef>
                          <a:spcPts val="14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73080" indent="12600">
                        <a:lnSpc>
                          <a:spcPts val="1361"/>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государственное образовательное учреждение «Учебно-производственный центр «Роярис»</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69840" indent="3240">
                        <a:lnSpc>
                          <a:spcPts val="1412"/>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уприянов В.М. Зав. уч.части 8-918-4105071</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69840" indent="6480">
                        <a:lnSpc>
                          <a:spcPts val="13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3535 Краснодарский край, г.Темрюк, ул.Шопена. 70</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r>
              <a:tr h="884520">
                <a:tc>
                  <a:txBody>
                    <a:bodyPr lIns="0" rIns="0" tIns="0" bIns="0" anchor="t">
                      <a:noAutofit/>
                    </a:bodyPr>
                    <a:p>
                      <a:pPr marL="343080" indent="-343080" algn="r">
                        <a:lnSpc>
                          <a:spcPct val="100000"/>
                        </a:lnSpc>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73080">
                        <a:lnSpc>
                          <a:spcPct val="100000"/>
                        </a:lnSpc>
                        <a:spcBef>
                          <a:spcPts val="27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Индивидуальный предприниматель</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69840">
                        <a:lnSpc>
                          <a:spcPts val="1386"/>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35353"/>
                          </a:solidFill>
                          <a:latin typeface="Times New Roman"/>
                        </a:rPr>
                        <a:t>Болотов Виктор Иванович</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lvl="1" marL="73080" indent="6120">
                        <a:lnSpc>
                          <a:spcPts val="13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353860 Краснодарский </a:t>
                      </a:r>
                      <a:r>
                        <a:rPr b="0" lang="ru-RU" sz="1100" spc="-1" strike="noStrike">
                          <a:solidFill>
                            <a:srgbClr val="000000"/>
                          </a:solidFill>
                          <a:latin typeface="Times New Roman"/>
                        </a:rPr>
                        <a:t>край. </a:t>
                      </a:r>
                      <a:r>
                        <a:rPr b="1" lang="ru-RU" sz="1100" spc="-1" strike="noStrike">
                          <a:solidFill>
                            <a:srgbClr val="000000"/>
                          </a:solidFill>
                          <a:latin typeface="Times New Roman"/>
                        </a:rPr>
                        <a:t>г.Приморско-</a:t>
                      </a:r>
                      <a:endParaRPr b="0" lang="en-US" sz="1100" spc="-1" strike="noStrike">
                        <a:solidFill>
                          <a:srgbClr val="000000"/>
                        </a:solidFill>
                        <a:latin typeface="Arial"/>
                      </a:endParaRPr>
                    </a:p>
                    <a:p>
                      <a:pPr marL="69840">
                        <a:lnSpc>
                          <a:spcPts val="13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хтарск. ул.Бульварная. 81</a:t>
                      </a:r>
                      <a:endParaRPr b="0" lang="en-US" sz="1200" spc="-1" strike="noStrike">
                        <a:solidFill>
                          <a:srgbClr val="000000"/>
                        </a:solidFill>
                        <a:latin typeface="Arial"/>
                      </a:endParaRPr>
                    </a:p>
                    <a:p>
                      <a:pPr marL="69840">
                        <a:lnSpc>
                          <a:spcPts val="13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86143)27867</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r>
              <a:tr h="884160">
                <a:tc>
                  <a:txBody>
                    <a:bodyPr lIns="0" rIns="0" tIns="0" bIns="0" anchor="t">
                      <a:noAutofit/>
                    </a:bodyPr>
                    <a:p>
                      <a:pPr marL="343080" indent="-343080" algn="r">
                        <a:lnSpc>
                          <a:spcPct val="100000"/>
                        </a:lnSpc>
                        <a:spcBef>
                          <a:spcPts val="27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66600">
                        <a:lnSpc>
                          <a:spcPts val="1349"/>
                        </a:lnSpc>
                        <a:spcBef>
                          <a:spcPts val="21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МОУ ДО «Межшкольный учебный комбинат»</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69840" indent="-3240">
                        <a:lnSpc>
                          <a:spcPts val="1361"/>
                        </a:lnSpc>
                        <a:spcBef>
                          <a:spcPts val="21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вуч Свечникова Наталья Васильевна</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63360" indent="3240">
                        <a:lnSpc>
                          <a:spcPts val="1361"/>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3860 Краснодарский край. г.Славянск-на-Кубани, ул.Краснодарская, д.258 8(246) 7-37-42</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r>
              <a:tr h="731880">
                <a:tc>
                  <a:txBody>
                    <a:bodyPr lIns="0" rIns="0" tIns="0" bIns="0" anchor="t">
                      <a:noAutofit/>
                    </a:bodyPr>
                    <a:p>
                      <a:pPr marL="343080" indent="-343080" algn="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60480">
                        <a:lnSpc>
                          <a:spcPts val="1361"/>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Негосударственное образовательное учреждение «Учебно-методический центр «ГЮЙС»</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69840" indent="-12600">
                        <a:lnSpc>
                          <a:spcPts val="1386"/>
                        </a:lnSpc>
                        <a:spcBef>
                          <a:spcPts val="14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Times New Roman"/>
                        </a:rPr>
                        <a:t>Директор Радченко СВ.</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63360" indent="-2880">
                        <a:lnSpc>
                          <a:spcPts val="1386"/>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Краснодар, ул.Коммунаров, 31. </a:t>
                      </a:r>
                      <a:r>
                        <a:rPr b="1" lang="ru-RU" sz="1200" spc="-1" strike="noStrike">
                          <a:solidFill>
                            <a:srgbClr val="000000"/>
                          </a:solidFill>
                          <a:latin typeface="Times New Roman"/>
                        </a:rPr>
                        <a:t>оф.ЗЗ </a:t>
                      </a:r>
                      <a:r>
                        <a:rPr b="0" lang="ru-RU" sz="1200" spc="-1" strike="noStrike">
                          <a:solidFill>
                            <a:srgbClr val="000000"/>
                          </a:solidFill>
                          <a:latin typeface="Times New Roman"/>
                        </a:rPr>
                        <a:t>т/факс 8(861)268-01-43 </a:t>
                      </a:r>
                      <a:r>
                        <a:rPr b="1" lang="ru-RU" sz="1200" spc="-1" strike="noStrike">
                          <a:solidFill>
                            <a:srgbClr val="000000"/>
                          </a:solidFill>
                          <a:latin typeface="Times New Roman"/>
                        </a:rPr>
                        <a:t>8-918-1111-990</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r>
            </a:tbl>
          </a:graphicData>
        </a:graphic>
      </p:graphicFrame>
      <p:sp>
        <p:nvSpPr>
          <p:cNvPr id="42" name=""/>
          <p:cNvSpPr/>
          <p:nvPr/>
        </p:nvSpPr>
        <p:spPr>
          <a:xfrm>
            <a:off x="311040" y="4145040"/>
            <a:ext cx="6918480" cy="5075280"/>
          </a:xfr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just">
              <a:lnSpc>
                <a:spcPts val="161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осле завершения обучения, прибыть в Тихорецкий инспекторский участок для написания заявления о допуске к сдаче экзаменов на право управления маломерным судном, при себе иметь:</a:t>
            </a:r>
            <a:endParaRPr b="0" lang="en-US" sz="1400" spc="-1" strike="noStrike">
              <a:solidFill>
                <a:srgbClr val="000000"/>
              </a:solidFill>
              <a:latin typeface="Arial"/>
            </a:endParaRPr>
          </a:p>
          <a:p>
            <a:pPr lvl="4" marL="476280" indent="-228600">
              <a:lnSpc>
                <a:spcPts val="1610"/>
              </a:lnSpc>
              <a:spcBef>
                <a:spcPts val="1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1.   Диплом (свидетельство) об окончании учебного заведения по судоводительской специальности либо справку об окончании курсов (школы) по подготовке судоводителей маломерных судов</a:t>
            </a:r>
            <a:endParaRPr b="0" lang="en-US" sz="1400" spc="-1" strike="noStrike">
              <a:solidFill>
                <a:srgbClr val="000000"/>
              </a:solidFill>
              <a:latin typeface="Arial"/>
            </a:endParaRPr>
          </a:p>
          <a:p>
            <a:pPr lvl="2" marL="228600">
              <a:lnSpc>
                <a:spcPts val="161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2.   Паспорт</a:t>
            </a:r>
            <a:endParaRPr b="0" lang="en-US" sz="1400" spc="-1" strike="noStrike">
              <a:solidFill>
                <a:srgbClr val="000000"/>
              </a:solidFill>
              <a:latin typeface="Arial"/>
            </a:endParaRPr>
          </a:p>
          <a:p>
            <a:pPr lvl="2" marL="228600">
              <a:lnSpc>
                <a:spcPts val="161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3.  2 фотографии 3x4, цветные, матовые, без уголка</a:t>
            </a:r>
            <a:endParaRPr b="0" lang="en-US" sz="1400" spc="-1" strike="noStrike">
              <a:solidFill>
                <a:srgbClr val="000000"/>
              </a:solidFill>
              <a:latin typeface="Arial"/>
            </a:endParaRPr>
          </a:p>
          <a:p>
            <a:pPr lvl="3" marL="453960" indent="-228600">
              <a:lnSpc>
                <a:spcPts val="161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4.   Медицинскую справку о годности к управлению маломерным судном (транспортным средством)</a:t>
            </a:r>
            <a:endParaRPr b="0" lang="en-US" sz="1400" spc="-1" strike="noStrike">
              <a:solidFill>
                <a:srgbClr val="000000"/>
              </a:solidFill>
              <a:latin typeface="Arial"/>
            </a:endParaRPr>
          </a:p>
          <a:p>
            <a:pPr lvl="2" marL="228600">
              <a:lnSpc>
                <a:spcPct val="100000"/>
              </a:lnSpc>
              <a:spcBef>
                <a:spcPts val="1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римечание:</a:t>
            </a:r>
            <a:endParaRPr b="0" lang="en-US" sz="1400" spc="-1" strike="noStrike">
              <a:solidFill>
                <a:srgbClr val="000000"/>
              </a:solidFill>
              <a:latin typeface="Arial"/>
            </a:endParaRPr>
          </a:p>
          <a:p>
            <a:pPr lvl="1" marL="219240">
              <a:lnSpc>
                <a:spcPts val="161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1.    Лица, предъявившие в составе вышеперечисленных документов, дипломы (свидетельства) на право занятия судоводительских должностей, а также дипломы яхтенных капитанов, удостоверения яхтенных рулевых, судоводительские национальные или международные документы, от сдачи экзаменов на право управления соответственно моторным или парусным маломерным судном освобождаются. Выдача этим лицам удостоверения производится по результатам собеседования с ними на заседании экзаменационной комиссии в объеме требований правил пользования маломерными судами.</a:t>
            </a:r>
            <a:endParaRPr b="0" lang="en-US" sz="1400" spc="-1" strike="noStrike">
              <a:solidFill>
                <a:srgbClr val="000000"/>
              </a:solidFill>
              <a:latin typeface="Arial"/>
            </a:endParaRPr>
          </a:p>
          <a:p>
            <a:pPr lvl="1" marL="219240">
              <a:lnSpc>
                <a:spcPts val="1587"/>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2.  Удостоверение на право управления маломерным судном необходимо иметь всем судоводителям управляющим моторными судами с мощностью двигателя свыше 5 лошадиных сил (3,68 киловатт), а также парусными судами.</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12:19:35Z</dcterms:created>
  <dc:creator>Sanya</dc:creator>
  <dc:description/>
  <dc:language>en-US</dc:language>
  <cp:lastModifiedBy>Sanya</cp:lastModifiedBy>
  <dcterms:modified xsi:type="dcterms:W3CDTF">2011-05-18T12:20:23Z</dcterms:modified>
  <cp:revision>1</cp:revision>
  <dc:subject/>
  <dc:title>Слайд 1</dc:title>
</cp:coreProperties>
</file>