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7761288" cy="108473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8A7DF-4B5A-47A2-9D27-5F18D6B23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7000" y="434520"/>
            <a:ext cx="6985080" cy="18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7000" y="2530440"/>
            <a:ext cx="6985080" cy="34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7000" y="6270120"/>
            <a:ext cx="6985080" cy="34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2154C-38BC-4648-94EA-A3364E5EE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7000" y="434520"/>
            <a:ext cx="6985080" cy="18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7000" y="2530440"/>
            <a:ext cx="3408480" cy="34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966120" y="2530440"/>
            <a:ext cx="3408480" cy="34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7000" y="6270120"/>
            <a:ext cx="3408480" cy="34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966120" y="6270120"/>
            <a:ext cx="3408480" cy="34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458FF-C335-41A2-BAC2-EA04A1F37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7000" y="434520"/>
            <a:ext cx="6985080" cy="18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7000" y="2530440"/>
            <a:ext cx="2248920" cy="34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748600" y="2530440"/>
            <a:ext cx="2248920" cy="34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110560" y="2530440"/>
            <a:ext cx="2248920" cy="34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7000" y="6270120"/>
            <a:ext cx="2248920" cy="34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748600" y="6270120"/>
            <a:ext cx="2248920" cy="34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110560" y="6270120"/>
            <a:ext cx="2248920" cy="34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23FA5-8AC0-47A9-BEDA-61310D2E2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7000" y="434520"/>
            <a:ext cx="6985080" cy="18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7000" y="2530440"/>
            <a:ext cx="6985080" cy="71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5F188-0233-4393-A774-1CF031D4C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7000" y="434520"/>
            <a:ext cx="6985080" cy="18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7000" y="2530440"/>
            <a:ext cx="6985080" cy="715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AFCC1-7601-47E4-B63F-7E3D4F424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7000" y="434520"/>
            <a:ext cx="6985080" cy="18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7000" y="2530440"/>
            <a:ext cx="3408480" cy="715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966120" y="2530440"/>
            <a:ext cx="3408480" cy="715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EE865-AEB9-4E17-81E7-01A6C2B01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7000" y="434520"/>
            <a:ext cx="6985080" cy="18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6AD94-803C-4E99-9AC0-37C5005EF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7000" y="434520"/>
            <a:ext cx="6985080" cy="83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46BDA-1CC5-46E1-A175-8FDB03399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7000" y="434520"/>
            <a:ext cx="6985080" cy="18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7000" y="2530440"/>
            <a:ext cx="3408480" cy="34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966120" y="2530440"/>
            <a:ext cx="3408480" cy="715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7000" y="6270120"/>
            <a:ext cx="3408480" cy="34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17C43-9549-434F-BC85-D3152277B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7000" y="434520"/>
            <a:ext cx="6985080" cy="18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7000" y="2530440"/>
            <a:ext cx="3408480" cy="715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966120" y="2530440"/>
            <a:ext cx="3408480" cy="34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966120" y="6270120"/>
            <a:ext cx="3408480" cy="34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444F6-98DF-4A5B-A1E9-D59DBD1E9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7000" y="434520"/>
            <a:ext cx="6985080" cy="18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7000" y="2530440"/>
            <a:ext cx="3408480" cy="34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966120" y="2530440"/>
            <a:ext cx="3408480" cy="34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7000" y="6270120"/>
            <a:ext cx="6985080" cy="34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CF24A-2B8A-4407-9939-DB5BF9D2C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7000" y="434520"/>
            <a:ext cx="6985080" cy="18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7000" y="2530440"/>
            <a:ext cx="6985080" cy="715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7000" y="9876960"/>
            <a:ext cx="181116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51040" y="9876960"/>
            <a:ext cx="245736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560920" y="9876960"/>
            <a:ext cx="181152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F494F-9D2F-434A-82EE-E7A4C92AD1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468520" y="225360"/>
            <a:ext cx="3429000" cy="317520"/>
          </a:xfr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80880" indent="-380880">
              <a:lnSpc>
                <a:spcPts val="132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34343"/>
                </a:solidFill>
                <a:latin typeface="Times New Roman"/>
              </a:rPr>
              <a:t>Адреса и телефоны подразделений Центра ГИМС МЧС России по Краснодарскому кра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401760" y="701640"/>
          <a:ext cx="6919920" cy="10509120"/>
        </p:xfrm>
        <a:graphic>
          <a:graphicData uri="http://schemas.openxmlformats.org/drawingml/2006/table">
            <a:tbl>
              <a:tblPr/>
              <a:tblGrid>
                <a:gridCol w="452160"/>
                <a:gridCol w="1627200"/>
                <a:gridCol w="1133640"/>
                <a:gridCol w="1590480"/>
                <a:gridCol w="586080"/>
                <a:gridCol w="1530360"/>
              </a:tblGrid>
              <a:tr h="365040"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36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№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36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34343"/>
                          </a:solidFill>
                          <a:latin typeface="Times New Roman"/>
                        </a:rPr>
                        <a:t>Отделения и участ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8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34343"/>
                          </a:solidFill>
                          <a:latin typeface="Times New Roman"/>
                        </a:rPr>
                        <a:t>Старш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625320">
                        <a:lnSpc>
                          <a:spcPct val="100000"/>
                        </a:lnSpc>
                        <a:spcBef>
                          <a:spcPts val="2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34343"/>
                          </a:solidFill>
                          <a:latin typeface="Times New Roman"/>
                        </a:rPr>
                        <a:t>Адре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03320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34343"/>
                          </a:solidFill>
                          <a:latin typeface="Times New Roman"/>
                        </a:rPr>
                        <a:t>Служебный телефо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4680"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/п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34343"/>
                          </a:solidFill>
                          <a:latin typeface="Times New Roman"/>
                        </a:rPr>
                        <a:t>госинспекто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82520"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34343"/>
                          </a:solidFill>
                          <a:latin typeface="Times New Roman"/>
                        </a:rPr>
                        <a:t>Краснодарско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34343"/>
                          </a:solidFill>
                          <a:latin typeface="Times New Roman"/>
                        </a:rPr>
                        <a:t>Галушка Паве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42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0063, г. Краснода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34343"/>
                          </a:solidFill>
                          <a:latin typeface="Times New Roman"/>
                        </a:rPr>
                        <a:t>8-8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496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34343"/>
                          </a:solidFill>
                          <a:latin typeface="Times New Roman"/>
                        </a:rPr>
                        <a:t>219-36-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4680">
                <a:tc>
                  <a:txBody>
                    <a:bodyPr lIns="0" rIns="0" tIns="0" bIns="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34343"/>
                          </a:solidFill>
                          <a:latin typeface="Times New Roman"/>
                        </a:rPr>
                        <a:t>отделе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34343"/>
                          </a:solidFill>
                          <a:latin typeface="Times New Roman"/>
                        </a:rPr>
                        <a:t>Павлович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207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л. Парусная, 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417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. 214-84-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4680">
                <a:tc>
                  <a:txBody>
                    <a:bodyPr lIns="0" rIns="0" tIns="0" bIns="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4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-905-49465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82520"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34343"/>
                          </a:solidFill>
                          <a:latin typeface="Times New Roman"/>
                        </a:rPr>
                        <a:t>ЕЙСКОЕ </a:t>
                      </a:r>
                      <a:r>
                        <a:rPr b="0" lang="en-US" sz="1200" spc="-1" strike="noStrike">
                          <a:solidFill>
                            <a:srgbClr val="434343"/>
                          </a:solidFill>
                          <a:latin typeface="Times New Roman"/>
                        </a:rPr>
                        <a:t>отделе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34343"/>
                          </a:solidFill>
                          <a:latin typeface="Times New Roman"/>
                        </a:rPr>
                        <a:t>Денисенк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14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3680, г. Ейск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576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656565"/>
                          </a:solidFill>
                          <a:latin typeface="Times New Roman"/>
                        </a:rPr>
                        <a:t>3-53-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4680">
                <a:tc>
                  <a:txBody>
                    <a:bodyPr lIns="0" rIns="0" tIns="0" bIns="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34343"/>
                          </a:solidFill>
                          <a:latin typeface="Times New Roman"/>
                        </a:rPr>
                        <a:t>Юр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4334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йская кос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61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77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34343"/>
                          </a:solidFill>
                          <a:latin typeface="Times New Roman"/>
                        </a:rPr>
                        <a:t>8-918-443365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4680">
                <a:tc>
                  <a:txBody>
                    <a:bodyPr lIns="0" rIns="0" tIns="0" bIns="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34343"/>
                          </a:solidFill>
                          <a:latin typeface="Times New Roman"/>
                        </a:rPr>
                        <a:t>Дмитриевич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82520"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34343"/>
                          </a:solidFill>
                          <a:latin typeface="Times New Roman"/>
                        </a:rPr>
                        <a:t>ПРИМОРСКО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амал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54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3890, г. Приморско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5666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-93-7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4680">
                <a:tc>
                  <a:txBody>
                    <a:bodyPr lIns="0" rIns="0" tIns="0" bIns="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34343"/>
                          </a:solidFill>
                          <a:latin typeface="Times New Roman"/>
                        </a:rPr>
                        <a:t>АХТАРСКО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34343"/>
                          </a:solidFill>
                          <a:latin typeface="Times New Roman"/>
                        </a:rPr>
                        <a:t>Никола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95120">
                        <a:lnSpc>
                          <a:spcPct val="100000"/>
                        </a:lnSpc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хтарск, ул. 50 ле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34343"/>
                          </a:solidFill>
                          <a:latin typeface="Times New Roman"/>
                        </a:rPr>
                        <a:t>8614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4906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. 2-95-9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4680">
                <a:tc>
                  <a:txBody>
                    <a:bodyPr lIns="0" rIns="0" tIns="0" bIns="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тделе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34343"/>
                          </a:solidFill>
                          <a:latin typeface="Times New Roman"/>
                        </a:rPr>
                        <a:t>Ильич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4334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34343"/>
                          </a:solidFill>
                          <a:latin typeface="Times New Roman"/>
                        </a:rPr>
                        <a:t>Октября, 9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1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-918-43546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98360"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34343"/>
                          </a:solidFill>
                          <a:latin typeface="Times New Roman"/>
                        </a:rPr>
                        <a:t>ТЕМРЮКСКО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огульск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2221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3520, г. Темрю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569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34343"/>
                          </a:solidFill>
                          <a:latin typeface="Times New Roman"/>
                        </a:rPr>
                        <a:t>5-40-6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4680">
                <a:tc>
                  <a:txBody>
                    <a:bodyPr lIns="0" rIns="0" tIns="0" bIns="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34343"/>
                          </a:solidFill>
                          <a:latin typeface="Times New Roman"/>
                        </a:rPr>
                        <a:t>отделе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34343"/>
                          </a:solidFill>
                          <a:latin typeface="Times New Roman"/>
                        </a:rPr>
                        <a:t>Паве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262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л. Береговая, 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61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4680">
                <a:tc>
                  <a:txBody>
                    <a:bodyPr lIns="0" rIns="0" tIns="0" bIns="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лександрович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5144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«Роялис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98360"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34343"/>
                          </a:solidFill>
                          <a:latin typeface="Times New Roman"/>
                        </a:rPr>
                        <a:t>СЛАВЯНСКО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34343"/>
                          </a:solidFill>
                          <a:latin typeface="Times New Roman"/>
                        </a:rPr>
                        <a:t>Юрчевск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46160">
                        <a:lnSpc>
                          <a:spcPct val="100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3560, г. Славянск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5634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3-8-7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4680">
                <a:tc>
                  <a:txBody>
                    <a:bodyPr lIns="0" rIns="0" tIns="0" bIns="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34343"/>
                          </a:solidFill>
                          <a:latin typeface="Times New Roman"/>
                        </a:rPr>
                        <a:t>отделе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34343"/>
                          </a:solidFill>
                          <a:latin typeface="Times New Roman"/>
                        </a:rPr>
                        <a:t>Никола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473040">
                        <a:lnSpc>
                          <a:spcPct val="100000"/>
                        </a:lnSpc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34343"/>
                          </a:solidFill>
                          <a:latin typeface="Times New Roman"/>
                        </a:rPr>
                        <a:t>на-Кубан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34343"/>
                          </a:solidFill>
                          <a:latin typeface="Times New Roman"/>
                        </a:rPr>
                        <a:t>8614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4680">
                <a:tc>
                  <a:txBody>
                    <a:bodyPr lIns="0" rIns="0" tIns="0" bIns="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34343"/>
                          </a:solidFill>
                          <a:latin typeface="Times New Roman"/>
                        </a:rPr>
                        <a:t>Иванович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857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34343"/>
                          </a:solidFill>
                          <a:latin typeface="Times New Roman"/>
                        </a:rPr>
                        <a:t>ул. Набережная, 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83960"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34343"/>
                          </a:solidFill>
                          <a:latin typeface="Times New Roman"/>
                        </a:rPr>
                        <a:t>АНАПСКИЙ </a:t>
                      </a:r>
                      <a:r>
                        <a:rPr b="0" lang="en-US" sz="1200" spc="-1" strike="noStrike">
                          <a:solidFill>
                            <a:srgbClr val="434343"/>
                          </a:solidFill>
                          <a:latin typeface="Times New Roman"/>
                        </a:rPr>
                        <a:t>участо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34343"/>
                          </a:solidFill>
                          <a:latin typeface="Times New Roman"/>
                        </a:rPr>
                        <a:t>Старик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271440">
                        <a:lnSpc>
                          <a:spcPct val="100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3440, г. Анап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557280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-62-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4680">
                <a:tc>
                  <a:txBody>
                    <a:bodyPr lIns="0" rIns="0" tIns="0" bIns="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34343"/>
                          </a:solidFill>
                          <a:latin typeface="Times New Roman"/>
                        </a:rPr>
                        <a:t>Серг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219240">
                        <a:lnSpc>
                          <a:spcPct val="100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л. Набережная, 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61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31920">
                        <a:lnSpc>
                          <a:spcPct val="100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-918-37498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4680">
                <a:tc>
                  <a:txBody>
                    <a:bodyPr lIns="0" rIns="0" tIns="0" bIns="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34343"/>
                          </a:solidFill>
                          <a:latin typeface="Times New Roman"/>
                        </a:rPr>
                        <a:t>Алексеевич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98360"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34343"/>
                          </a:solidFill>
                          <a:latin typeface="Times New Roman"/>
                        </a:rPr>
                        <a:t>НОВОРОССИЙС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34343"/>
                          </a:solidFill>
                          <a:latin typeface="Times New Roman"/>
                        </a:rPr>
                        <a:t>Полонск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557280">
                        <a:lnSpc>
                          <a:spcPct val="100000"/>
                        </a:lnSpc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3907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34343"/>
                          </a:solidFill>
                          <a:latin typeface="Times New Roman"/>
                        </a:rPr>
                        <a:t>8-86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5205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-55-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4680">
                <a:tc>
                  <a:txBody>
                    <a:bodyPr lIns="0" rIns="0" tIns="0" bIns="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34343"/>
                          </a:solidFill>
                          <a:latin typeface="Times New Roman"/>
                        </a:rPr>
                        <a:t>И </a:t>
                      </a:r>
                      <a:r>
                        <a:rPr b="0" lang="en-US" sz="1200" spc="-1" strike="noStrike">
                          <a:solidFill>
                            <a:srgbClr val="434343"/>
                          </a:solidFill>
                          <a:latin typeface="Times New Roman"/>
                        </a:rPr>
                        <a:t>участо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34343"/>
                          </a:solidFill>
                          <a:latin typeface="Times New Roman"/>
                        </a:rPr>
                        <a:t>Дмитр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271440">
                        <a:lnSpc>
                          <a:spcPct val="100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34343"/>
                          </a:solidFill>
                          <a:latin typeface="Times New Roman"/>
                        </a:rPr>
                        <a:t>г. Новороссийс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31920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-928-40514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4680">
                <a:tc>
                  <a:txBody>
                    <a:bodyPr lIns="0" rIns="0" tIns="0" bIns="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лександрович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240">
                        <a:lnSpc>
                          <a:spcPct val="100000"/>
                        </a:lnSpc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_ул. Первомайская, 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98360"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34343"/>
                          </a:solidFill>
                          <a:latin typeface="Times New Roman"/>
                        </a:rPr>
                        <a:t>ГЕЛЕНДЖИКСК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34343"/>
                          </a:solidFill>
                          <a:latin typeface="Times New Roman"/>
                        </a:rPr>
                        <a:t>Журк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554040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3460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-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554040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-45-3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4680">
                <a:tc>
                  <a:txBody>
                    <a:bodyPr lIns="0" rIns="0" tIns="0" bIns="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часто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34343"/>
                          </a:solidFill>
                          <a:latin typeface="Times New Roman"/>
                        </a:rPr>
                        <a:t>Серг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747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34343"/>
                          </a:solidFill>
                          <a:latin typeface="Times New Roman"/>
                        </a:rPr>
                        <a:t>г. Геленджи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34343"/>
                          </a:solidFill>
                          <a:latin typeface="Times New Roman"/>
                        </a:rPr>
                        <a:t>861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510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-26-15 сп.ст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4680">
                <a:tc>
                  <a:txBody>
                    <a:bodyPr lIns="0" rIns="0" tIns="0" bIns="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34343"/>
                          </a:solidFill>
                          <a:latin typeface="Times New Roman"/>
                        </a:rPr>
                        <a:t>Владимирович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88920">
                        <a:lnSpc>
                          <a:spcPct val="100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л. Революционная, 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25440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656565"/>
                          </a:solidFill>
                          <a:latin typeface="Times New Roman"/>
                        </a:rPr>
                        <a:t>8-961-51355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82520"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34343"/>
                          </a:solidFill>
                          <a:latin typeface="Times New Roman"/>
                        </a:rPr>
                        <a:t>ТУАПСИНСКО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34343"/>
                          </a:solidFill>
                          <a:latin typeface="Times New Roman"/>
                        </a:rPr>
                        <a:t>Попк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241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2800, г. Туапс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549360">
                        <a:lnSpc>
                          <a:spcPct val="100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-82-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4680">
                <a:tc>
                  <a:txBody>
                    <a:bodyPr lIns="0" rIns="0" tIns="0" bIns="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34343"/>
                          </a:solidFill>
                          <a:latin typeface="Times New Roman"/>
                        </a:rPr>
                        <a:t>отделе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34343"/>
                          </a:solidFill>
                          <a:latin typeface="Times New Roman"/>
                        </a:rPr>
                        <a:t>Михаи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235080">
                        <a:lnSpc>
                          <a:spcPct val="100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л. Полетаева, 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34343"/>
                          </a:solidFill>
                          <a:latin typeface="Times New Roman"/>
                        </a:rPr>
                        <a:t>8616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24000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34343"/>
                          </a:solidFill>
                          <a:latin typeface="Times New Roman"/>
                        </a:rPr>
                        <a:t>8-918-460444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4680">
                <a:tc>
                  <a:txBody>
                    <a:bodyPr lIns="0" rIns="0" tIns="0" bIns="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34343"/>
                          </a:solidFill>
                          <a:latin typeface="Times New Roman"/>
                        </a:rPr>
                        <a:t>Сергеевич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34343"/>
                          </a:solidFill>
                          <a:latin typeface="Times New Roman"/>
                        </a:rPr>
                        <a:t>Г'ир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24000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-918-315267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4680">
                <a:tc>
                  <a:txBody>
                    <a:bodyPr lIns="0" rIns="0" tIns="0" bIns="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В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82520"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34343"/>
                          </a:solidFill>
                          <a:latin typeface="Times New Roman"/>
                        </a:rPr>
                        <a:t>СОЧИНСКО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34343"/>
                          </a:solidFill>
                          <a:latin typeface="Times New Roman"/>
                        </a:rPr>
                        <a:t>Ефрем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291960">
                        <a:lnSpc>
                          <a:spcPct val="100000"/>
                        </a:lnSpc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34343"/>
                          </a:solidFill>
                          <a:latin typeface="Times New Roman"/>
                        </a:rPr>
                        <a:t>354000, г. Соч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-86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509760">
                        <a:lnSpc>
                          <a:spcPct val="100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-10-5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4680">
                <a:tc>
                  <a:txBody>
                    <a:bodyPr lIns="0" rIns="0" tIns="0" bIns="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34343"/>
                          </a:solidFill>
                          <a:latin typeface="Times New Roman"/>
                        </a:rPr>
                        <a:t>отделе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ома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21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34343"/>
                          </a:solidFill>
                          <a:latin typeface="Times New Roman"/>
                        </a:rPr>
                        <a:t>ул. Горького, 38, к. 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14280">
                        <a:lnSpc>
                          <a:spcPct val="100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-918-20768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4680">
                <a:tc>
                  <a:txBody>
                    <a:bodyPr lIns="0" rIns="0" tIns="0" bIns="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34343"/>
                          </a:solidFill>
                          <a:latin typeface="Times New Roman"/>
                        </a:rPr>
                        <a:t>Петрович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76040">
                        <a:lnSpc>
                          <a:spcPct val="100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34343"/>
                          </a:solidFill>
                          <a:latin typeface="Times New Roman"/>
                        </a:rPr>
                        <a:t>Дима 891820206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98360"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34343"/>
                          </a:solidFill>
                          <a:latin typeface="Times New Roman"/>
                        </a:rPr>
                        <a:t>ТИХОРЕЦК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34343"/>
                          </a:solidFill>
                          <a:latin typeface="Times New Roman"/>
                        </a:rPr>
                        <a:t>Загоруйк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542880">
                        <a:lnSpc>
                          <a:spcPct val="100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34343"/>
                          </a:solidFill>
                          <a:latin typeface="Times New Roman"/>
                        </a:rPr>
                        <a:t>352120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536400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34343"/>
                          </a:solidFill>
                          <a:latin typeface="Times New Roman"/>
                        </a:rPr>
                        <a:t>4-13-7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4680">
                <a:tc>
                  <a:txBody>
                    <a:bodyPr lIns="0" rIns="0" tIns="0" bIns="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34343"/>
                          </a:solidFill>
                          <a:latin typeface="Times New Roman"/>
                        </a:rPr>
                        <a:t>участо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34343"/>
                          </a:solidFill>
                          <a:latin typeface="Times New Roman"/>
                        </a:rPr>
                        <a:t>Паве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4111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34343"/>
                          </a:solidFill>
                          <a:latin typeface="Times New Roman"/>
                        </a:rPr>
                        <a:t>г. Тихорец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34343"/>
                          </a:solidFill>
                          <a:latin typeface="Times New Roman"/>
                        </a:rPr>
                        <a:t>861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11040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-928-40709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4680">
                <a:tc>
                  <a:txBody>
                    <a:bodyPr lIns="0" rIns="0" tIns="0" bIns="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34343"/>
                          </a:solidFill>
                          <a:latin typeface="Times New Roman"/>
                        </a:rPr>
                        <a:t>Иванович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201600">
                        <a:lnSpc>
                          <a:spcPct val="100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34343"/>
                          </a:solidFill>
                          <a:latin typeface="Times New Roman"/>
                        </a:rPr>
                        <a:t>ул. Энгельса, 76-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82520"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34343"/>
                          </a:solidFill>
                          <a:latin typeface="Times New Roman"/>
                        </a:rPr>
                        <a:t>КРОПОТКИНСК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булгафар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536400">
                        <a:lnSpc>
                          <a:spcPct val="100000"/>
                        </a:lnSpc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2130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533520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-22-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4680">
                <a:tc>
                  <a:txBody>
                    <a:bodyPr lIns="0" rIns="0" tIns="0" bIns="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часто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34343"/>
                          </a:solidFill>
                          <a:latin typeface="Times New Roman"/>
                        </a:rPr>
                        <a:t>Витал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60360">
                        <a:lnSpc>
                          <a:spcPct val="100000"/>
                        </a:lnSpc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34343"/>
                          </a:solidFill>
                          <a:latin typeface="Times New Roman"/>
                        </a:rPr>
                        <a:t>г. Кропотки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613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07800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-928-436844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4680">
                <a:tc>
                  <a:txBody>
                    <a:bodyPr lIns="0" rIns="0" tIns="0" bIns="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34343"/>
                          </a:solidFill>
                          <a:latin typeface="Times New Roman"/>
                        </a:rPr>
                        <a:t>Валерьевич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19160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34343"/>
                          </a:solidFill>
                          <a:latin typeface="Times New Roman"/>
                        </a:rPr>
                        <a:t>Артур 8918-437266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82520"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34343"/>
                          </a:solidFill>
                          <a:latin typeface="Times New Roman"/>
                        </a:rPr>
                        <a:t>КАЛИНИНСК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34343"/>
                          </a:solidFill>
                          <a:latin typeface="Times New Roman"/>
                        </a:rPr>
                        <a:t>Яриш Серг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552600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379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527040">
                        <a:lnSpc>
                          <a:spcPct val="10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34343"/>
                          </a:solidFill>
                          <a:latin typeface="Times New Roman"/>
                        </a:rPr>
                        <a:t>2-666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4680">
                <a:tc>
                  <a:txBody>
                    <a:bodyPr lIns="0" rIns="0" tIns="0" bIns="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часто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34343"/>
                          </a:solidFill>
                          <a:latin typeface="Times New Roman"/>
                        </a:rPr>
                        <a:t>Анатольевич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49320">
                        <a:lnSpc>
                          <a:spcPct val="100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т. Старовеличковска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34343"/>
                          </a:solidFill>
                          <a:latin typeface="Times New Roman"/>
                        </a:rPr>
                        <a:t>8616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01680">
                        <a:lnSpc>
                          <a:spcPct val="10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-918-32110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4320">
                <a:tc>
                  <a:txBody>
                    <a:bodyPr lIns="0" rIns="0" tIns="0" bIns="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79200">
                        <a:lnSpc>
                          <a:spcPct val="100000"/>
                        </a:lnSpc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ер^Придорожный, 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8T11:34:09Z</dcterms:created>
  <dc:creator>Sanya</dc:creator>
  <dc:description/>
  <dc:language>en-US</dc:language>
  <cp:lastModifiedBy>Sanya</cp:lastModifiedBy>
  <dcterms:modified xsi:type="dcterms:W3CDTF">2011-05-18T11:34:31Z</dcterms:modified>
  <cp:revision>1</cp:revision>
  <dc:subject/>
  <dc:title>Слайд 1</dc:title>
</cp:coreProperties>
</file>