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717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E55-2E0E-452D-95D3-2397A347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DAC-C9A7-4DEE-AB5C-475E9E5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640-83A2-4E60-810A-F1D03BAF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96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592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96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592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613-F3AA-49FB-B2D7-EB961AD9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04E-BE07-476E-8C43-2356E79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35F-3DE4-4B75-8297-2E0A8AA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FAB-BEDA-452A-8641-28EF6284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334-7224-4D7F-9E3C-4E01A78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79896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5F0-BF5F-425D-AC0D-636A1EE7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BF7-DD5D-4A5C-BF37-77B63E0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3A2-F04D-4F57-A63D-33242706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91E-0173-4EA2-B0B1-65B2FA0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1200" y="9761040"/>
            <a:ext cx="23925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512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38B1-F42E-4109-BAC1-F2C9B4596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0560" y="716040"/>
            <a:ext cx="6003720" cy="85914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840" algn="just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Тихорецкий инспекторский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участок Центра ГИМС МЧС России по Краснодарскому краю создан и осуществляет свою деятельность в соответствии с Постановлением Правительства Российской Федерации от 24 декабря 2004 года № 835, Положением о Тихорецком инспекторском участке и другими ведомственными документами МЧС России, зарегистрированными в Министерстве юсти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103480">
              <a:lnSpc>
                <a:spcPts val="1610"/>
              </a:lnSpc>
              <a:spcBef>
                <a:spcPts val="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Выписка из функ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1. осуществление в установленном порядке государственной регистрации, учета, и проведение первичного и ежегодного технического освидетельствования и осмотров маломерных судов, присвоение им государственных (бортовых) номеров, выдачу судовых билетов и иных документов на зарегистрированные маломерные су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5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осударственной регистрации подлежа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2061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ребные лодки грузоподъемностью 100 и более килограмм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>
              <a:lnSpc>
                <a:spcPts val="2086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 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надувные лодки грузоподъемностью 225 и более килограмм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86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моторные лодки независимо от грузоподъемности и мощности двигат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112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водные мотоциклы (гидроциклы) и несамоходные суда вместимостью менее 80 тон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35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прогулочные суда пассажировместимостью не более 12 человек независимо от мощности главных двигателей и вместим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1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2. осуществление аттестации и выдачи удостоверений на право управления маломерными судами, регистрационных и иных документов, необходимых для допуска маломерных судов и судоводителей к участию в плаван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Лица управляющие маломерными судами незарегистрированными в установленном порядке, а так же допускающие при управлении ими нарушения действующего законодательства несут ответственность в соответствии со статьями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7 </a:t>
            </a:r>
            <a:r>
              <a:rPr b="0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—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13</a:t>
            </a: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Кодекса административных правонаруше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24:27Z</dcterms:created>
  <dc:creator>Sanya</dc:creator>
  <dc:description/>
  <dc:language>en-US</dc:language>
  <cp:lastModifiedBy>Sanya</cp:lastModifiedBy>
  <dcterms:modified xsi:type="dcterms:W3CDTF">2011-05-18T12:25:07Z</dcterms:modified>
  <cp:revision>1</cp:revision>
  <dc:subject/>
  <dc:title>Слайд 1</dc:title>
</cp:coreProperties>
</file>