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531100" cy="1068863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D45A3-E661-43BD-A5D2-3CE9F9136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76200" y="428400"/>
            <a:ext cx="6778800" cy="17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76200" y="2494080"/>
            <a:ext cx="677880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76200" y="6179040"/>
            <a:ext cx="677880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18EE9-DC60-4357-B7C0-D81A1A27B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76200" y="428400"/>
            <a:ext cx="6778800" cy="17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76200" y="2494080"/>
            <a:ext cx="330804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0200" y="2494080"/>
            <a:ext cx="330804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76200" y="6179040"/>
            <a:ext cx="330804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0200" y="6179040"/>
            <a:ext cx="330804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1155A-B286-4FFC-8FA2-25301979B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76200" y="428400"/>
            <a:ext cx="6778800" cy="17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76200" y="2494080"/>
            <a:ext cx="218268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668320" y="2494080"/>
            <a:ext cx="218268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960440" y="2494080"/>
            <a:ext cx="218268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76200" y="6179040"/>
            <a:ext cx="218268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668320" y="6179040"/>
            <a:ext cx="218268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960440" y="6179040"/>
            <a:ext cx="218268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1E8B9-4576-4C76-8356-E4B8DD516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76200" y="428400"/>
            <a:ext cx="6778800" cy="17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76200" y="2494080"/>
            <a:ext cx="6778800" cy="7054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5816A-C617-4854-AEB4-D06000807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76200" y="428400"/>
            <a:ext cx="6778800" cy="17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76200" y="2494080"/>
            <a:ext cx="6778800" cy="705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65522-F7F0-4566-81BF-A9A9EA4DA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76200" y="428400"/>
            <a:ext cx="6778800" cy="17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76200" y="2494080"/>
            <a:ext cx="3308040" cy="705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0200" y="2494080"/>
            <a:ext cx="3308040" cy="705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E2A93-C75B-421E-8C33-DDF9F72BA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76200" y="428400"/>
            <a:ext cx="6778800" cy="17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ACF93-3CED-4F7D-897F-29EB64504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76200" y="428400"/>
            <a:ext cx="6778800" cy="8256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5AF1D-6661-44D2-A563-761C4F2F8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76200" y="428400"/>
            <a:ext cx="6778800" cy="17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76200" y="2494080"/>
            <a:ext cx="330804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0200" y="2494080"/>
            <a:ext cx="3308040" cy="705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76200" y="6179040"/>
            <a:ext cx="330804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E1B29-1986-4CA5-95A8-69C2F839F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76200" y="428400"/>
            <a:ext cx="6778800" cy="17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76200" y="2494080"/>
            <a:ext cx="3308040" cy="705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0200" y="2494080"/>
            <a:ext cx="330804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0200" y="6179040"/>
            <a:ext cx="330804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B51D7-7AB4-4499-BD48-9919D323B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76200" y="428400"/>
            <a:ext cx="6778800" cy="17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76200" y="2494080"/>
            <a:ext cx="330804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0200" y="2494080"/>
            <a:ext cx="330804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76200" y="6179040"/>
            <a:ext cx="677880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C9768-A0CB-453B-86C8-B2EDB07AA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76200" y="428400"/>
            <a:ext cx="6778800" cy="17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76200" y="2494080"/>
            <a:ext cx="6778800" cy="7054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76200" y="9732960"/>
            <a:ext cx="1757520" cy="743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573280" y="9732960"/>
            <a:ext cx="2384640" cy="743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5397480" y="9732960"/>
            <a:ext cx="1757520" cy="743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F208E-0224-4CC0-8993-660B0F595B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41280" y="347760"/>
            <a:ext cx="6824520" cy="1189080"/>
          </a:xfrm>
          <a:solidFill>
            <a:srgbClr val="ffffff"/>
          </a:solidFill>
          <a:ln w="9360">
            <a:solidFill>
              <a:srgbClr val="000000"/>
            </a:solidFill>
            <a:round/>
          </a:ln>
        </p:spPr>
        <p:style>
          <a:lnRef idx="0"/>
          <a:fillRef idx="0"/>
          <a:effectRef idx="0"/>
          <a:fontRef idx="minor"/>
        </p:style>
        <p:txBody>
          <a:bodyPr lIns="90000" rIns="90000" tIns="46800" bIns="46800" anchor="t">
            <a:noAutofit/>
          </a:bodyPr>
          <a:p>
            <a:pPr lvl="1" marL="2571840">
              <a:lnSpc>
                <a:spcPts val="1610"/>
              </a:lnSpc>
              <a:tabLst>
                <a:tab algn="l" pos="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СУДОВОДИТЕЛЯМ</a:t>
            </a:r>
            <a:endParaRPr b="0" lang="en-US" sz="1700" spc="-1" strike="noStrike">
              <a:solidFill>
                <a:srgbClr val="000000"/>
              </a:solidFill>
              <a:latin typeface="Arial"/>
            </a:endParaRPr>
          </a:p>
          <a:p>
            <a:pPr algn="just">
              <a:lnSpc>
                <a:spcPts val="161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Для получения удостоверения на право управления маломерным судном, если Вы не имеете диплома (свидетельства) на право занятия судоводительских должностей, или диплома яхтенного капитана, удостоверения яхтенного рулевого, судоводительского национального или международного документа, Вам необходимо пройти обучение в одном из ниже перечисленных учебных заведений:</a:t>
            </a:r>
            <a:endParaRPr b="0" lang="en-US" sz="1400" spc="-1" strike="noStrike">
              <a:solidFill>
                <a:srgbClr val="000000"/>
              </a:solidFill>
              <a:latin typeface="Arial"/>
            </a:endParaRPr>
          </a:p>
        </p:txBody>
      </p:sp>
      <p:sp>
        <p:nvSpPr>
          <p:cNvPr id="42" name=""/>
          <p:cNvSpPr/>
          <p:nvPr/>
        </p:nvSpPr>
        <p:spPr>
          <a:xfrm>
            <a:off x="341280" y="1536840"/>
            <a:ext cx="79560" cy="2880"/>
          </a:xfrm>
          <a:solidFill>
            <a:srgbClr val="ffffff"/>
          </a:solid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aphicFrame>
        <p:nvGraphicFramePr>
          <p:cNvPr id="43" name=""/>
          <p:cNvGraphicFramePr/>
          <p:nvPr/>
        </p:nvGraphicFramePr>
        <p:xfrm>
          <a:off x="420840" y="1536840"/>
          <a:ext cx="6649920" cy="8705520"/>
        </p:xfrm>
        <a:graphic>
          <a:graphicData uri="http://schemas.openxmlformats.org/drawingml/2006/table">
            <a:tbl>
              <a:tblPr/>
              <a:tblGrid>
                <a:gridCol w="353880"/>
                <a:gridCol w="2736720"/>
                <a:gridCol w="1712880"/>
                <a:gridCol w="1846440"/>
              </a:tblGrid>
              <a:tr h="704520">
                <a:tc>
                  <a:txBody>
                    <a:bodyPr lIns="0" rIns="0" tIns="0" bIns="0" anchor="t">
                      <a:noAutofit/>
                    </a:bodyPr>
                    <a:p>
                      <a:pPr marL="343080" indent="-343080" algn="r">
                        <a:lnSpc>
                          <a:spcPts val="1386"/>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и/и</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426960" indent="36720">
                        <a:lnSpc>
                          <a:spcPts val="1386"/>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аименование организации, осуществляющей подготовку</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92160">
                        <a:lnSpc>
                          <a:spcPts val="1386"/>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Фамилия, имя, отчество руководителя</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252360">
                        <a:lnSpc>
                          <a:spcPts val="1386"/>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Юридический адрес, телефон</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691560">
                <a:tc>
                  <a:txBody>
                    <a:bodyPr lIns="0" rIns="0" tIns="0" bIns="0" anchor="t">
                      <a:noAutofit/>
                    </a:bodyPr>
                    <a:p>
                      <a:pPr marL="343080" indent="-343080" algn="r">
                        <a:lnSpc>
                          <a:spcPct val="100000"/>
                        </a:lnSpc>
                        <a:spcBef>
                          <a:spcPts val="20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9200" indent="9720">
                        <a:lnSpc>
                          <a:spcPts val="1361"/>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ГОУ «Учебный центр Государственной противопожарной службы МЧС России по Краснодарскому краю»</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9200" indent="12960">
                        <a:lnSpc>
                          <a:spcPts val="1386"/>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35353"/>
                          </a:solidFill>
                          <a:latin typeface="Times New Roman"/>
                        </a:rPr>
                        <a:t>Начальник ГУ МЧС России по КК Казликин А.Г.</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6320" indent="12600">
                        <a:lnSpc>
                          <a:spcPts val="1361"/>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50080, Краснодарский край. г.Краснодар, ул .Уральская, 121 232-99-21</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880560">
                <a:tc>
                  <a:txBody>
                    <a:bodyPr lIns="0" rIns="0" tIns="0" bIns="0" anchor="t">
                      <a:noAutofit/>
                    </a:bodyPr>
                    <a:p>
                      <a:pPr marL="343080" indent="-343080" algn="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6320" indent="9360">
                        <a:lnSpc>
                          <a:spcPts val="13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бразовательное подразделение Учебно-методический центр по ГО, ЧС и подготовке спасателей МУ ПАСС «Служба спасения» муниципального образования город Краснодар</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9200" indent="9720">
                        <a:lnSpc>
                          <a:spcPts val="1386"/>
                        </a:lnSpc>
                        <a:spcBef>
                          <a:spcPts val="13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Times New Roman"/>
                        </a:rPr>
                        <a:t>Начальник учебно-методического центра Шах В.Р.</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3080" indent="12600">
                        <a:lnSpc>
                          <a:spcPts val="1386"/>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0057, г.Краснодар. ул.Фадеева, 413 а</a:t>
                      </a:r>
                      <a:endParaRPr b="0" lang="en-US" sz="1200" spc="-1" strike="noStrike">
                        <a:solidFill>
                          <a:srgbClr val="000000"/>
                        </a:solidFill>
                        <a:latin typeface="Arial"/>
                      </a:endParaRPr>
                    </a:p>
                    <a:p>
                      <a:pPr lvl="1" marL="76320">
                        <a:lnSpc>
                          <a:spcPts val="1386"/>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7-61-58</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528480">
                <a:tc>
                  <a:txBody>
                    <a:bodyPr lIns="0" rIns="0" tIns="0" bIns="0" anchor="t">
                      <a:noAutofit/>
                    </a:bodyPr>
                    <a:p>
                      <a:pPr marL="343080" indent="-343080" algn="r">
                        <a:lnSpc>
                          <a:spcPct val="10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30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Times New Roman"/>
                        </a:rPr>
                        <a:t>ООО фирма «АСТОП»</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6320" indent="2880">
                        <a:lnSpc>
                          <a:spcPts val="1361"/>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Тонких Андрей Викторович</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9840" indent="9360">
                        <a:lnSpc>
                          <a:spcPts val="13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50058, Краснодарский край, ул.Бургасская, 43. тел. 234-07-17, 235-58-46</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704520">
                <a:tc>
                  <a:txBody>
                    <a:bodyPr lIns="0" rIns="0" tIns="0" bIns="0" anchor="t">
                      <a:noAutofit/>
                    </a:bodyPr>
                    <a:p>
                      <a:pPr marL="343080" indent="-343080" algn="r">
                        <a:lnSpc>
                          <a:spcPct val="100000"/>
                        </a:lnSpc>
                        <a:spcBef>
                          <a:spcPts val="28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9840" indent="9360">
                        <a:lnSpc>
                          <a:spcPts val="13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вороссийская морская школа РОСТО им. М.М.Корницкого Краснодарского краевого совета Российской оборонной спортивно-технической организации</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6320">
                        <a:lnSpc>
                          <a:spcPct val="100000"/>
                        </a:lnSpc>
                        <a:spcBef>
                          <a:spcPts val="28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ачальник Гуляй Г.В.</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9840" indent="6480">
                        <a:lnSpc>
                          <a:spcPts val="1386"/>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3905, Краснодарский край, г.Новороссийск. ул.Толстого. 4 61-19-93</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528480">
                <a:tc>
                  <a:txBody>
                    <a:bodyPr lIns="0" rIns="0" tIns="0" bIns="0" anchor="t">
                      <a:noAutofit/>
                    </a:bodyPr>
                    <a:p>
                      <a:pPr marL="343080" indent="-343080" algn="r">
                        <a:lnSpc>
                          <a:spcPct val="100000"/>
                        </a:lnSpc>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3080" indent="6120">
                        <a:lnSpc>
                          <a:spcPts val="1386"/>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Учебно-тренажерное судно «Руза» ООО «База обслуживания флота»</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3080" indent="-3240">
                        <a:lnSpc>
                          <a:spcPts val="1361"/>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Times New Roman"/>
                        </a:rPr>
                        <a:t>Директор Вербицкий С.С.</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6600" indent="6480">
                        <a:lnSpc>
                          <a:spcPts val="13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3900. Краснодарский край, г.Новороссийск, ул.Мира, 2 </a:t>
                      </a:r>
                      <a:r>
                        <a:rPr b="1" lang="en-US" sz="1200" spc="-1" strike="noStrike">
                          <a:solidFill>
                            <a:srgbClr val="000000"/>
                          </a:solidFill>
                          <a:latin typeface="Times New Roman"/>
                        </a:rPr>
                        <a:t>61-06-01</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528480">
                <a:tc>
                  <a:txBody>
                    <a:bodyPr lIns="0" rIns="0" tIns="0" bIns="0" anchor="t">
                      <a:noAutofit/>
                    </a:bodyPr>
                    <a:p>
                      <a:pPr marL="343080" indent="-343080" algn="r">
                        <a:lnSpc>
                          <a:spcPct val="100000"/>
                        </a:lnSpc>
                        <a:spcBef>
                          <a:spcPts val="14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3360" indent="3240">
                        <a:lnSpc>
                          <a:spcPts val="1349"/>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государственное образовательное учреждение «Учебно-тренажерный центр «НовошипТренинг»</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6600">
                        <a:lnSpc>
                          <a:spcPts val="1386"/>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ветлов Владимир Львович</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3360" indent="3240">
                        <a:lnSpc>
                          <a:spcPts val="13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53920, г.Новороссийск. ул.Куникова. 28 (8617)60-10-72</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864360">
                <a:tc rowSpan="2">
                  <a:txBody>
                    <a:bodyPr lIns="0" rIns="0" tIns="0" bIns="0" anchor="t">
                      <a:noAutofit/>
                    </a:bodyPr>
                    <a:p>
                      <a:pPr marL="343080" indent="-343080" algn="r">
                        <a:lnSpc>
                          <a:spcPts val="56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8.</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6600">
                        <a:lnSpc>
                          <a:spcPts val="1361"/>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бразовательное подразделение «Центр подготовки спасателей» государственного учреждения «Южный региональный поисково-спасательный отряд» МЧС России</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9840" indent="-3240">
                        <a:lnSpc>
                          <a:spcPts val="1361"/>
                        </a:lnSpc>
                        <a:spcBef>
                          <a:spcPts val="14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чальник УЦ Потоцкий Владислав Дмитриевич</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3360" indent="3240">
                        <a:lnSpc>
                          <a:spcPts val="1386"/>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4003, Краснодарский край, г.Сочи, ул.Пластуновская, 151а 98-63-04</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528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marL="69840" indent="-3240">
                        <a:lnSpc>
                          <a:spcPts val="13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ореходные классы» Клуба юных моряков при центре внешкольной подготовки творчества</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984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дуа Ирма Борисовна</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0480">
                        <a:lnSpc>
                          <a:spcPts val="13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4000, г.Сочи, ул.Курортный </a:t>
                      </a:r>
                      <a:r>
                        <a:rPr b="1" lang="en-US" sz="1200" spc="-1" strike="noStrike">
                          <a:solidFill>
                            <a:srgbClr val="000000"/>
                          </a:solidFill>
                          <a:latin typeface="Times New Roman"/>
                        </a:rPr>
                        <a:t>проспект, </a:t>
                      </a:r>
                      <a:r>
                        <a:rPr b="0" lang="en-US" sz="1200" spc="-1" strike="noStrike">
                          <a:solidFill>
                            <a:srgbClr val="000000"/>
                          </a:solidFill>
                          <a:latin typeface="Times New Roman"/>
                        </a:rPr>
                        <a:t>32-а</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1037160">
                <a:tc>
                  <a:txBody>
                    <a:bodyPr lIns="0" rIns="0" tIns="0" bIns="0" anchor="t">
                      <a:noAutofit/>
                    </a:bodyPr>
                    <a:p>
                      <a:pPr marL="343080" indent="-343080" algn="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0480" indent="-3240">
                        <a:lnSpc>
                          <a:spcPts val="1361"/>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уктурное образовательное подразделение Туапсинского филиала федерального государственного учреждения «Государственный центральный аэромобильный спасательный отряд»</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9840">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Times New Roman"/>
                        </a:rPr>
                        <a:t>Начальник Баклан С.Н.</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57240">
                        <a:lnSpc>
                          <a:spcPts val="1361"/>
                        </a:lnSpc>
                        <a:spcBef>
                          <a:spcPts val="14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3290, Краснодарский край, г.Туапсе, ул.Сочинская. 2 3-14-01</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864360">
                <a:tc>
                  <a:txBody>
                    <a:bodyPr lIns="0" rIns="0" tIns="0" bIns="0" anchor="t">
                      <a:noAutofit/>
                    </a:bodyPr>
                    <a:p>
                      <a:pPr marL="158760">
                        <a:lnSpc>
                          <a:spcPct val="100000"/>
                        </a:lnSpc>
                        <a:spcBef>
                          <a:spcPts val="27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9840" indent="-6480">
                        <a:lnSpc>
                          <a:spcPts val="1349"/>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разовательное подразделение Геленджикской городской организации Краснодарской краевой организации Общероссийской общественной организации РОСТО</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9840" indent="-6480">
                        <a:lnSpc>
                          <a:spcPts val="1361"/>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едседатель ГГО РОСТО Егоров В.В. Завуч Зиновьев Владимир Михайлович 8-918-4784814</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0480" indent="-3240">
                        <a:lnSpc>
                          <a:spcPts val="134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53460 Краснодарский край, г.Геленджик ул.Серафимовича. 13 8-241-3-36-39</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518760">
                <a:tc>
                  <a:txBody>
                    <a:bodyPr lIns="0" rIns="0" tIns="0" bIns="0" anchor="t">
                      <a:noAutofit/>
                    </a:bodyPr>
                    <a:p>
                      <a:pPr lvl="1" marL="155520">
                        <a:lnSpc>
                          <a:spcPct val="100000"/>
                        </a:lnSpc>
                        <a:spcBef>
                          <a:spcPts val="20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Arial"/>
                      </a:endParaRPr>
                    </a:p>
                    <a:p>
                      <a:pPr marL="15840">
                        <a:lnSpc>
                          <a:spcPct val="100000"/>
                        </a:lnSpc>
                        <a:spcBef>
                          <a:spcPts val="10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1a48a"/>
                          </a:solidFill>
                          <a:latin typeface="Times New Roman"/>
                        </a:rPr>
                        <a:t>____</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3360" indent="-2880">
                        <a:lnSpc>
                          <a:spcPts val="1386"/>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УДОД «Клуб юных моряков им.Героя Советского Союза А.С.Калинина»</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3080" indent="-6480">
                        <a:lnSpc>
                          <a:spcPts val="1386"/>
                        </a:lnSpc>
                        <a:spcBef>
                          <a:spcPts val="13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35353"/>
                          </a:solidFill>
                          <a:latin typeface="Times New Roman"/>
                        </a:rPr>
                        <a:t>Начальник Сидорюк СИ.</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3360" indent="-6120">
                        <a:lnSpc>
                          <a:spcPts val="1361"/>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раснодарский край. г.Анапа, ул.Астраханская, д.62 тел. 8-233-4-26-67</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bl>
          </a:graphicData>
        </a:graphic>
      </p:graphicFrame>
      <p:sp>
        <p:nvSpPr>
          <p:cNvPr id="44" name=""/>
          <p:cNvSpPr/>
          <p:nvPr/>
        </p:nvSpPr>
        <p:spPr>
          <a:xfrm>
            <a:off x="7070760" y="1536840"/>
            <a:ext cx="95040" cy="2880"/>
          </a:xfrm>
          <a:solidFill>
            <a:srgbClr val="ffffff"/>
          </a:solid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12:14:25Z</dcterms:created>
  <dc:creator>Sanya</dc:creator>
  <dc:description/>
  <dc:language>en-US</dc:language>
  <cp:lastModifiedBy>Sanya</cp:lastModifiedBy>
  <dcterms:modified xsi:type="dcterms:W3CDTF">2011-05-18T12:15:30Z</dcterms:modified>
  <cp:revision>1</cp:revision>
  <dc:subject/>
  <dc:title>Слайд 1</dc:title>
</cp:coreProperties>
</file>