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39038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CE1-CBBD-4FF8-8EFE-61EBC0F0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5840" y="618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53C-8AEE-4F3C-A14F-83D005A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272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AD0-2155-4F47-850A-BA4E05CD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976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404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584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976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404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F51-9A54-465E-AB63-C36B1607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ACC-3D52-4D23-8BBD-9ECE42B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DC4-96B6-4FF2-A77B-9E36922C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A4E-EFAE-41FD-B2BC-4A953613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18E-7A51-4CA5-8863-7BFD879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5840" y="428760"/>
            <a:ext cx="678492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0FA-902D-4806-91BD-25004A13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55E-088B-4579-9001-130E27A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272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948-112C-4863-B01C-22030E1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4C0-FBC6-419D-BB24-D52D29F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6200" y="9748800"/>
            <a:ext cx="1758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75080" y="9748800"/>
            <a:ext cx="2387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02160" y="9748800"/>
            <a:ext cx="1758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929-E0D0-460D-9577-9C8AF031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6400" y="361800"/>
            <a:ext cx="5924520" cy="7988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17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В соответствии со статьей 333.33 главы 25.3 части 2 Налогового Кодекса РФ и дополнениями, внесенными Федеральным законом от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21.07.2005г. №106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-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ФЗ,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от 27.12.2009 г. №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374-ФЗ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государственная пошлина составляет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44640" y="1200240"/>
          <a:ext cx="6175440" cy="8935560"/>
        </p:xfrm>
        <a:graphic>
          <a:graphicData uri="http://schemas.openxmlformats.org/drawingml/2006/table">
            <a:tbl>
              <a:tblPr/>
              <a:tblGrid>
                <a:gridCol w="4108320"/>
                <a:gridCol w="2067120"/>
              </a:tblGrid>
              <a:tr h="854640">
                <a:tc>
                  <a:txBody>
                    <a:bodyPr lIns="0" rIns="0" tIns="0" bIns="0" anchor="t">
                      <a:noAutofit/>
                    </a:bodyPr>
                    <a:p>
                      <a:pPr lvl="1" marL="1517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ts val="138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оторных лодок с подвесными моторами мощностью до 10 л.с, гребных лодок, байдарок, надувных безмоторных су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ts val="2324"/>
                        </a:lnSpc>
                        <a:spcBef>
                          <a:spcPts val="26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58120">
                <a:tc>
                  <a:txBody>
                    <a:bodyPr lIns="0" rIns="0" tIns="0" bIns="0" anchor="t">
                      <a:noAutofit/>
                    </a:bodyPr>
                    <a:p>
                      <a:pPr lvl="1" marL="1511280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ts val="1361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катеров с главными двигателями мощностью менее 55 кВт, моторных лодок с подвесными моторами мощностью свыше 10 л.с, водных мотоциклов (гидроциклов), несамоходных судов вместимостью менее 80 тон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ts val="2299"/>
                        </a:lnSpc>
                        <a:spcBef>
                          <a:spcPts val="37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5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0" rIns="0" tIns="0" bIns="0" anchor="t">
                      <a:noAutofit/>
                    </a:bodyPr>
                    <a:p>
                      <a:pPr lvl="1" marL="1508040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огулочных судов, в том числе парусных, пассажировместимостью не более 12 человек независимо от мощности главных двигателей и вместимости, используемых в целях морепла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>
                        <a:lnSpc>
                          <a:spcPts val="2350"/>
                        </a:lnSpc>
                        <a:spcBef>
                          <a:spcPts val="30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2200"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сударственная регистрация изменен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16000">
                        <a:lnSpc>
                          <a:spcPts val="2324"/>
                        </a:lnSpc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0" rIns="0" tIns="0" bIns="0" anchor="t">
                      <a:noAutofit/>
                    </a:bodyPr>
                    <a:p>
                      <a:pPr marL="9176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носимых в судовую кни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9836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сударственная регистрация ограни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04840">
                        <a:lnSpc>
                          <a:spcPts val="2324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5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3016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(обременении) прав на маломерное су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36828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судового билета на маломер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ts val="2273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0" rIns="0" tIns="0" bIns="0" anchor="t">
                      <a:noAutofit/>
                    </a:bodyPr>
                    <a:p>
                      <a:pPr marL="18478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су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marL="43812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убликата судового билета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09520">
                        <a:lnSpc>
                          <a:spcPts val="2324"/>
                        </a:lnSpc>
                        <a:spcBef>
                          <a:spcPts val="19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аломерное судно взамен утраченного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9669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ишедшего в негод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окумента, подтверждающ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81160">
                        <a:lnSpc>
                          <a:spcPts val="2299"/>
                        </a:lnSpc>
                        <a:spcBef>
                          <a:spcPts val="20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6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304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дность маломерного судна к пла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188136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(Т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1555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удостоверения на прав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01600">
                        <a:lnSpc>
                          <a:spcPts val="2324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8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1800">
                <a:tc>
                  <a:txBody>
                    <a:bodyPr lIns="0" rIns="0" tIns="0" bIns="0" anchor="t">
                      <a:noAutofit/>
                    </a:bodyPr>
                    <a:p>
                      <a:pPr marL="10332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___________маломерным судном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 marL="21924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убликата удостоверения в связи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ts val="2324"/>
                        </a:lnSpc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8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163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его утер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Замена удостоверения на прав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2240">
                        <a:lnSpc>
                          <a:spcPts val="235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4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1890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аломерным суд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несение изменений в удостоверение в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ts val="2299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2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3938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с переменой фамилии, имени, от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 marL="469800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одление (возобновление)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192240">
                        <a:lnSpc>
                          <a:spcPts val="2299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4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удостоверения в случаях, предусмотр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>
                  <a:txBody>
                    <a:bodyPr lIns="0" rIns="0" tIns="0" bIns="0" anchor="t">
                      <a:noAutofit/>
                    </a:bodyPr>
                    <a:p>
                      <a:pPr marL="1252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законодательст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07:23Z</dcterms:created>
  <dc:creator>Sanya</dc:creator>
  <dc:description/>
  <dc:language>en-US</dc:language>
  <cp:lastModifiedBy>Sanya</cp:lastModifiedBy>
  <dcterms:modified xsi:type="dcterms:W3CDTF">2011-05-18T12:08:11Z</dcterms:modified>
  <cp:revision>1</cp:revision>
  <dc:subject/>
  <dc:title>Слайд 1</dc:title>
</cp:coreProperties>
</file>