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05700" cy="106807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73E31-E076-48B8-B95B-22CBA310F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74400" y="2492280"/>
            <a:ext cx="675468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74400" y="6174720"/>
            <a:ext cx="675468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32E6-F7AA-4E97-8FD1-B8E763D24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744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358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744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358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A6E42-AFC1-4D0F-A8CD-93441D6A5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74400" y="249228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58240" y="249228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942080" y="249228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74400" y="617472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58240" y="617472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942080" y="6174720"/>
            <a:ext cx="21747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31C34-8893-4342-8085-D8075CEBF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74400" y="2492280"/>
            <a:ext cx="6754680" cy="7050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12E6-B0C7-49CF-A201-E69CF2EC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74400" y="2492280"/>
            <a:ext cx="675468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2D19-B911-433E-9EA0-9BF0E786E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744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358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1452A-0E5B-473B-99CA-738C5A18B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144F-46A7-4630-98DF-4E148D54D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4400" y="426960"/>
            <a:ext cx="6754680" cy="825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5640A-7656-4EB1-814D-FE08D6EB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744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358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744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022B-672F-4DE7-995F-B20DF0042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74400" y="2492280"/>
            <a:ext cx="3296160" cy="705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358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35800" y="617472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0AE3-F96E-4FE0-A3E1-7AFD74D4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744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35800" y="2492280"/>
            <a:ext cx="329616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74400" y="6174720"/>
            <a:ext cx="6754680" cy="33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A084-E050-45A1-B171-34168F0DB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4400" y="426960"/>
            <a:ext cx="6754680" cy="17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74400" y="2492280"/>
            <a:ext cx="6754680" cy="705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74760" y="9727920"/>
            <a:ext cx="1751040" cy="74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63560" y="9727920"/>
            <a:ext cx="2376360" cy="74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378400" y="9727920"/>
            <a:ext cx="1751040" cy="74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DBF7-4AA3-424A-AC45-62E1509A6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407880" y="298440"/>
          <a:ext cx="6645240" cy="3408480"/>
        </p:xfrm>
        <a:graphic>
          <a:graphicData uri="http://schemas.openxmlformats.org/drawingml/2006/table">
            <a:tbl>
              <a:tblPr/>
              <a:tblGrid>
                <a:gridCol w="354240"/>
                <a:gridCol w="2743200"/>
                <a:gridCol w="1706400"/>
                <a:gridCol w="1841400"/>
              </a:tblGrid>
              <a:tr h="371520">
                <a:tc>
                  <a:txBody>
                    <a:bodyPr lIns="0" rIns="0" tIns="0" bIns="0" anchor="t">
                      <a:noAutofit/>
                    </a:bodyPr>
                    <a:p>
                      <a:pPr marL="88920" indent="27000">
                        <a:lnSpc>
                          <a:spcPts val="141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п/п</a:t>
                      </a:r>
                      <a:endParaRPr b="0" lang="en-US" sz="11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423720" indent="3348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именование организации, осуществляющей подготовку</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82440">
                        <a:lnSpc>
                          <a:spcPts val="1412"/>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амилия, имя, отчество руководителя</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24444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Юридический адрес, телефон</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36400">
                <a:tc>
                  <a:txBody>
                    <a:bodyPr lIns="0" rIns="0" tIns="0" bIns="0" anchor="t">
                      <a:noAutofit/>
                    </a:bodyPr>
                    <a:p>
                      <a:pPr marL="343080" indent="-343080" algn="r">
                        <a:lnSpc>
                          <a:spcPct val="10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1260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государственное образовательное учреждение «Учебно-производственный центр «Роярис»</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3240">
                        <a:lnSpc>
                          <a:spcPts val="1412"/>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приянов В.М. Зав. уч.части 8-918-410507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535 Краснодарский край, г.Темрюк, ул.Шопена. 70</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84520">
                <a:tc>
                  <a:txBody>
                    <a:bodyPr lIns="0" rIns="0" tIns="0" bIns="0" anchor="t">
                      <a:noAutofit/>
                    </a:bodyPr>
                    <a:p>
                      <a:pPr marL="343080" indent="-343080" algn="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a:lnSpc>
                          <a:spcPct val="100000"/>
                        </a:lnSpc>
                        <a:spcBef>
                          <a:spcPts val="27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Индивидуальный предприниматель</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a:lnSpc>
                          <a:spcPts val="1386"/>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35353"/>
                          </a:solidFill>
                          <a:latin typeface="Times New Roman"/>
                        </a:rPr>
                        <a:t>Болотов Виктор Ивано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lvl="1" marL="73080" indent="612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3860 Краснодарский </a:t>
                      </a:r>
                      <a:r>
                        <a:rPr b="0" lang="ru-RU" sz="1100" spc="-1" strike="noStrike">
                          <a:solidFill>
                            <a:srgbClr val="000000"/>
                          </a:solidFill>
                          <a:latin typeface="Times New Roman"/>
                        </a:rPr>
                        <a:t>край. </a:t>
                      </a:r>
                      <a:r>
                        <a:rPr b="1" lang="ru-RU" sz="1100" spc="-1" strike="noStrike">
                          <a:solidFill>
                            <a:srgbClr val="000000"/>
                          </a:solidFill>
                          <a:latin typeface="Times New Roman"/>
                        </a:rPr>
                        <a:t>г.Приморско-</a:t>
                      </a:r>
                      <a:endParaRPr b="0" lang="en-US" sz="1100" spc="-1" strike="noStrike">
                        <a:solidFill>
                          <a:srgbClr val="000000"/>
                        </a:solidFill>
                        <a:latin typeface="Arial"/>
                      </a:endParaRPr>
                    </a:p>
                    <a:p>
                      <a:pPr marL="698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тарск. ул.Бульварная. 81</a:t>
                      </a:r>
                      <a:endParaRPr b="0" lang="en-US" sz="1200" spc="-1" strike="noStrike">
                        <a:solidFill>
                          <a:srgbClr val="000000"/>
                        </a:solidFill>
                        <a:latin typeface="Arial"/>
                      </a:endParaRPr>
                    </a:p>
                    <a:p>
                      <a:pPr marL="698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6143)27867</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84160">
                <a:tc>
                  <a:txBody>
                    <a:bodyPr lIns="0" rIns="0" tIns="0" bIns="0" anchor="t">
                      <a:noAutofit/>
                    </a:bodyPr>
                    <a:p>
                      <a:pPr marL="343080" indent="-343080" algn="r">
                        <a:lnSpc>
                          <a:spcPct val="100000"/>
                        </a:lnSpc>
                        <a:spcBef>
                          <a:spcPts val="27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a:lnSpc>
                          <a:spcPts val="1349"/>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У ДО «Межшкольный учебный комбинат»</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3240">
                        <a:lnSpc>
                          <a:spcPts val="1361"/>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вуч Свечникова Наталья Васильевн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61"/>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860 Краснодарский край. г.Славянск-на-Кубани, ул.Краснодарская, д.258 8(246) 7-37-4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731880">
                <a:tc>
                  <a:txBody>
                    <a:bodyPr lIns="0" rIns="0" tIns="0" bIns="0" anchor="t">
                      <a:noAutofit/>
                    </a:bodyPr>
                    <a:p>
                      <a:pPr marL="343080" indent="-343080" algn="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a:lnSpc>
                          <a:spcPts val="1361"/>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егосударственное образовательное учреждение «Учебно-методический центр «ГЮЙС»</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12600">
                        <a:lnSpc>
                          <a:spcPts val="1386"/>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Директор Радченко СВ.</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2880">
                        <a:lnSpc>
                          <a:spcPts val="1386"/>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Краснодар, ул.Коммунаров, 31. </a:t>
                      </a:r>
                      <a:r>
                        <a:rPr b="1" lang="ru-RU" sz="1200" spc="-1" strike="noStrike">
                          <a:solidFill>
                            <a:srgbClr val="000000"/>
                          </a:solidFill>
                          <a:latin typeface="Times New Roman"/>
                        </a:rPr>
                        <a:t>оф.ЗЗ </a:t>
                      </a:r>
                      <a:r>
                        <a:rPr b="0" lang="ru-RU" sz="1200" spc="-1" strike="noStrike">
                          <a:solidFill>
                            <a:srgbClr val="000000"/>
                          </a:solidFill>
                          <a:latin typeface="Times New Roman"/>
                        </a:rPr>
                        <a:t>т/факс 8(861)268-01-43 </a:t>
                      </a:r>
                      <a:r>
                        <a:rPr b="1" lang="ru-RU" sz="1200" spc="-1" strike="noStrike">
                          <a:solidFill>
                            <a:srgbClr val="000000"/>
                          </a:solidFill>
                          <a:latin typeface="Times New Roman"/>
                        </a:rPr>
                        <a:t>8-918-1111-990</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bl>
          </a:graphicData>
        </a:graphic>
      </p:graphicFrame>
      <p:sp>
        <p:nvSpPr>
          <p:cNvPr id="42" name=""/>
          <p:cNvSpPr/>
          <p:nvPr/>
        </p:nvSpPr>
        <p:spPr>
          <a:xfrm>
            <a:off x="311040" y="4145040"/>
            <a:ext cx="6918480" cy="5075280"/>
          </a:xfr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just">
              <a:lnSpc>
                <a:spcPts val="16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сле завершения обучения, прибыть в Тихорецкий инспекторский участок для написания заявления о допуске к сдаче экзаменов на право управления маломерным судном, при себе иметь:</a:t>
            </a:r>
            <a:endParaRPr b="0" lang="en-US" sz="1400" spc="-1" strike="noStrike">
              <a:solidFill>
                <a:srgbClr val="000000"/>
              </a:solidFill>
              <a:latin typeface="Arial"/>
            </a:endParaRPr>
          </a:p>
          <a:p>
            <a:pPr lvl="4" marL="476280" indent="-228600">
              <a:lnSpc>
                <a:spcPts val="1610"/>
              </a:lnSpc>
              <a:spcBef>
                <a:spcPts val="1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Диплом (свидетельство) об окончании учебного заведения по судоводительской специальности либо справку об окончании курсов (школы) по подготовке судоводителей маломерных судов</a:t>
            </a:r>
            <a:endParaRPr b="0" lang="en-US" sz="1400" spc="-1" strike="noStrike">
              <a:solidFill>
                <a:srgbClr val="000000"/>
              </a:solidFill>
              <a:latin typeface="Arial"/>
            </a:endParaRPr>
          </a:p>
          <a:p>
            <a:pPr lvl="2" marL="228600">
              <a:lnSpc>
                <a:spcPts val="161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Паспорт</a:t>
            </a:r>
            <a:endParaRPr b="0" lang="en-US" sz="1400" spc="-1" strike="noStrike">
              <a:solidFill>
                <a:srgbClr val="000000"/>
              </a:solidFill>
              <a:latin typeface="Arial"/>
            </a:endParaRPr>
          </a:p>
          <a:p>
            <a:pPr lvl="2" marL="228600">
              <a:lnSpc>
                <a:spcPts val="161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  2 фотографии 3x4, цветные, матовые, без уголка</a:t>
            </a:r>
            <a:endParaRPr b="0" lang="en-US" sz="1400" spc="-1" strike="noStrike">
              <a:solidFill>
                <a:srgbClr val="000000"/>
              </a:solidFill>
              <a:latin typeface="Arial"/>
            </a:endParaRPr>
          </a:p>
          <a:p>
            <a:pPr lvl="3" marL="453960" indent="-228600">
              <a:lnSpc>
                <a:spcPts val="16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   Медицинскую справку о годности к управлению маломерным судном (транспортным средством)</a:t>
            </a:r>
            <a:endParaRPr b="0" lang="en-US" sz="1400" spc="-1" strike="noStrike">
              <a:solidFill>
                <a:srgbClr val="000000"/>
              </a:solidFill>
              <a:latin typeface="Arial"/>
            </a:endParaRPr>
          </a:p>
          <a:p>
            <a:pPr lvl="2" marL="228600">
              <a:lnSpc>
                <a:spcPct val="100000"/>
              </a:lnSpc>
              <a:spcBef>
                <a:spcPts val="1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имечание:</a:t>
            </a:r>
            <a:endParaRPr b="0" lang="en-US" sz="1400" spc="-1" strike="noStrike">
              <a:solidFill>
                <a:srgbClr val="000000"/>
              </a:solidFill>
              <a:latin typeface="Arial"/>
            </a:endParaRPr>
          </a:p>
          <a:p>
            <a:pPr lvl="1" marL="219240">
              <a:lnSpc>
                <a:spcPts val="161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Лица, предъявившие в составе вышеперечисленных документов, дипломы (свидетельства) на право занятия судоводительских должностей, а также дипломы яхтенных капитанов, удостоверения яхтенных рулевых, судоводительские национальные или международные документы, от сдачи экзаменов на право управления соответственно моторным или парусным маломерным судном освобождаются. Выдача этим лицам удостоверения производится по результатам собеседования с ними на заседании экзаменационной комиссии в объеме требований правил пользования маломерными судами.</a:t>
            </a:r>
            <a:endParaRPr b="0" lang="en-US" sz="1400" spc="-1" strike="noStrike">
              <a:solidFill>
                <a:srgbClr val="000000"/>
              </a:solidFill>
              <a:latin typeface="Arial"/>
            </a:endParaRPr>
          </a:p>
          <a:p>
            <a:pPr lvl="1" marL="219240">
              <a:lnSpc>
                <a:spcPts val="1587"/>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Удостоверение на право управления маломерным судном необходимо иметь всем судоводителям управляющим моторными судами с мощностью двигателя свыше 5 лошадиных сил (3,68 киловатт), а также парусными судам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2:19:35Z</dcterms:created>
  <dc:creator>Sanya</dc:creator>
  <dc:description/>
  <dc:language>en-US</dc:language>
  <cp:lastModifiedBy>Sanya</cp:lastModifiedBy>
  <dcterms:modified xsi:type="dcterms:W3CDTF">2011-05-18T12:20:23Z</dcterms:modified>
  <cp:revision>1</cp:revision>
  <dc:subject/>
  <dc:title>Слайд 1</dc:title>
</cp:coreProperties>
</file>