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6500" cy="10717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7655-C3DF-45EC-9B47-B20F8ADE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500200"/>
            <a:ext cx="67989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95600"/>
            <a:ext cx="67989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5B82-C770-4DDC-B5BE-26D9E2C5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5002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5002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956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2080" y="61956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2A1F-B13E-491C-A4E0-3AAC253C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500200"/>
            <a:ext cx="21891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6960" y="2500200"/>
            <a:ext cx="21891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5920" y="2500200"/>
            <a:ext cx="21891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95600"/>
            <a:ext cx="21891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6960" y="6195600"/>
            <a:ext cx="21891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5920" y="6195600"/>
            <a:ext cx="21891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D88C-281C-47EA-9972-B6E22A38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500200"/>
            <a:ext cx="6798960" cy="70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8003-2280-4BFD-94AA-F81773FE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500200"/>
            <a:ext cx="6798960" cy="70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067D-EAF0-446C-ACF3-51BF8502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500200"/>
            <a:ext cx="3317760" cy="70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2080" y="2500200"/>
            <a:ext cx="3317760" cy="70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C819-231B-4DEB-9CC6-2DAFEE63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722B-D371-40D1-B77B-2311ED5E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798960" cy="82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0A05-08EF-4DC0-BC95-F9D84292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5002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500200"/>
            <a:ext cx="3317760" cy="70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956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1ED5-C577-40BA-A41C-83126983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500200"/>
            <a:ext cx="3317760" cy="70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5002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2080" y="61956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D39E-21DC-419A-847F-9A4FD612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5002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2080" y="2500200"/>
            <a:ext cx="33177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95600"/>
            <a:ext cx="6798960" cy="33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B31E-07BA-4FE4-A571-32009D9F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79896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500200"/>
            <a:ext cx="6798960" cy="707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8000" y="9761040"/>
            <a:ext cx="1761840" cy="7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1200" y="9761040"/>
            <a:ext cx="2392560" cy="7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5120" y="9761040"/>
            <a:ext cx="1761840" cy="7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17F6-BC84-4099-B45C-F173DB4A5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0560" y="716040"/>
            <a:ext cx="6003720" cy="8591400"/>
          </a:xfr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5840" algn="just">
              <a:lnSpc>
                <a:spcPts val="161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24242"/>
                </a:solidFill>
                <a:latin typeface="Times New Roman"/>
              </a:rPr>
              <a:t>Тихорецкий инспекторский </a:t>
            </a:r>
            <a:r>
              <a:rPr b="0" lang="ru-RU" sz="1500" spc="-1" strike="noStrike">
                <a:solidFill>
                  <a:srgbClr val="424242"/>
                </a:solidFill>
                <a:latin typeface="Times New Roman"/>
              </a:rPr>
              <a:t>участок Центра ГИМС МЧС России по Краснодарскому краю создан и осуществляет свою деятельность в соответствии с Постановлением Правительства Российской Федерации от 24 декабря 2004 года № 835, Положением о Тихорецком инспекторском участке и другими ведомственными документами МЧС России, зарегистрированными в Министерстве юстиц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103480">
              <a:lnSpc>
                <a:spcPts val="1610"/>
              </a:lnSpc>
              <a:spcBef>
                <a:spcPts val="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24242"/>
                </a:solidFill>
                <a:latin typeface="Times New Roman"/>
              </a:rPr>
              <a:t>Выписка из функций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840" algn="just">
              <a:lnSpc>
                <a:spcPts val="161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24242"/>
                </a:solidFill>
                <a:latin typeface="Times New Roman"/>
              </a:rPr>
              <a:t>1. осуществление в установленном порядке государственной регистрации, учета, и проведение первичного и ежегодного технического освидетельствования и осмотров маломерных судов, присвоение им государственных (бортовых) номеров, выдачу судовых билетов и иных документов на зарегистрированные маломерные суд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8589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24242"/>
                </a:solidFill>
                <a:uFillTx/>
                <a:latin typeface="Times New Roman"/>
              </a:rPr>
              <a:t>Государственной регистрации подлежат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840" algn="just">
              <a:lnSpc>
                <a:spcPts val="2061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24242"/>
                </a:solidFill>
                <a:uFillTx/>
                <a:latin typeface="Times New Roman"/>
              </a:rPr>
              <a:t>гребные лодки грузоподъемностью 100 и более килограммов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840">
              <a:lnSpc>
                <a:spcPts val="2086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24242"/>
                </a:solidFill>
                <a:uFillTx/>
                <a:latin typeface="Times New Roman"/>
              </a:rPr>
              <a:t>-</a:t>
            </a:r>
            <a:r>
              <a:rPr b="0" lang="ru-RU" sz="1900" spc="-1" strike="noStrike">
                <a:solidFill>
                  <a:srgbClr val="424242"/>
                </a:solidFill>
                <a:latin typeface="Times New Roman"/>
              </a:rPr>
              <a:t>   </a:t>
            </a:r>
            <a:r>
              <a:rPr b="0" lang="ru-RU" sz="1900" spc="-1" strike="noStrike" u="sng">
                <a:solidFill>
                  <a:srgbClr val="424242"/>
                </a:solidFill>
                <a:uFillTx/>
                <a:latin typeface="Times New Roman"/>
              </a:rPr>
              <a:t>надувные лодки грузоподъемностью 225 и более килограммо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2600">
              <a:lnSpc>
                <a:spcPts val="2086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24242"/>
                </a:solidFill>
                <a:uFillTx/>
                <a:latin typeface="Times New Roman"/>
              </a:rPr>
              <a:t>-</a:t>
            </a:r>
            <a:r>
              <a:rPr b="0" lang="ru-RU" sz="1900" spc="-1" strike="noStrike">
                <a:solidFill>
                  <a:srgbClr val="424242"/>
                </a:solidFill>
                <a:latin typeface="Times New Roman"/>
              </a:rPr>
              <a:t>  </a:t>
            </a:r>
            <a:r>
              <a:rPr b="0" lang="ru-RU" sz="1900" spc="-1" strike="noStrike" u="sng">
                <a:solidFill>
                  <a:srgbClr val="424242"/>
                </a:solidFill>
                <a:uFillTx/>
                <a:latin typeface="Times New Roman"/>
              </a:rPr>
              <a:t>моторные лодки независимо от грузоподъемности и мощности двигател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2600">
              <a:lnSpc>
                <a:spcPts val="2112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242"/>
                </a:solidFill>
                <a:latin typeface="Times New Roman"/>
              </a:rPr>
              <a:t>- водные мотоциклы (гидроциклы) и несамоходные суда вместимостью менее 80 тон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2600">
              <a:lnSpc>
                <a:spcPts val="2035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24242"/>
                </a:solidFill>
                <a:latin typeface="Times New Roman"/>
              </a:rPr>
              <a:t>- прогулочные суда пассажировместимостью не более 12 человек независимо от мощности главных двигателей и вместим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1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24242"/>
                </a:solidFill>
                <a:latin typeface="Times New Roman"/>
              </a:rPr>
              <a:t>2. осуществление аттестации и выдачи удостоверений на право управления маломерными судами, регистрационных и иных документов, необходимых для допуска маломерных судов и судоводителей к участию в плавани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50"/>
              </a:lnSpc>
              <a:spcBef>
                <a:spcPts val="16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24242"/>
                </a:solidFill>
                <a:latin typeface="Times New Roman"/>
              </a:rPr>
              <a:t>Лица управляющие маломерными судами незарегистрированными в установленном порядке, а так же допускающие при управлении ими нарушения действующего законодательства несут ответственность в соответствии со статьями </a:t>
            </a:r>
            <a:r>
              <a:rPr b="1" lang="ru-RU" sz="1500" spc="-1" strike="noStrike" u="sng">
                <a:solidFill>
                  <a:srgbClr val="424242"/>
                </a:solidFill>
                <a:uFillTx/>
                <a:latin typeface="Times New Roman"/>
              </a:rPr>
              <a:t>11.7 </a:t>
            </a:r>
            <a:r>
              <a:rPr b="0" lang="ru-RU" sz="1500" spc="-1" strike="noStrike" u="sng">
                <a:solidFill>
                  <a:srgbClr val="424242"/>
                </a:solidFill>
                <a:uFillTx/>
                <a:latin typeface="Times New Roman"/>
              </a:rPr>
              <a:t>— </a:t>
            </a:r>
            <a:r>
              <a:rPr b="1" lang="ru-RU" sz="1500" spc="-1" strike="noStrike" u="sng">
                <a:solidFill>
                  <a:srgbClr val="424242"/>
                </a:solidFill>
                <a:uFillTx/>
                <a:latin typeface="Times New Roman"/>
              </a:rPr>
              <a:t>11.13</a:t>
            </a:r>
            <a:r>
              <a:rPr b="1" lang="ru-RU" sz="1500" spc="-1" strike="noStrike">
                <a:solidFill>
                  <a:srgbClr val="424242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424242"/>
                </a:solidFill>
                <a:latin typeface="Times New Roman"/>
              </a:rPr>
              <a:t>Кодекса административных правонарушени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2:24:27Z</dcterms:created>
  <dc:creator>Sanya</dc:creator>
  <dc:description/>
  <dc:language>en-US</dc:language>
  <cp:lastModifiedBy>Sanya</cp:lastModifiedBy>
  <dcterms:modified xsi:type="dcterms:W3CDTF">2011-05-18T12:25:07Z</dcterms:modified>
  <cp:revision>1</cp:revision>
  <dc:subject/>
  <dc:title>Слайд 1</dc:title>
</cp:coreProperties>
</file>