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61288" cy="10847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CFCE-426A-4345-8F7C-D73DA0C9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7000" y="2530440"/>
            <a:ext cx="69850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7000" y="6270120"/>
            <a:ext cx="69850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8CB2-561B-4067-963A-18FDE499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7000" y="2530440"/>
            <a:ext cx="34084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6120" y="2530440"/>
            <a:ext cx="34084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7000" y="6270120"/>
            <a:ext cx="34084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6120" y="6270120"/>
            <a:ext cx="34084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26A3-F7B5-40C4-B1F1-8F31AAF9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7000" y="2530440"/>
            <a:ext cx="224892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48600" y="2530440"/>
            <a:ext cx="224892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10560" y="2530440"/>
            <a:ext cx="224892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7000" y="6270120"/>
            <a:ext cx="224892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48600" y="6270120"/>
            <a:ext cx="224892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10560" y="6270120"/>
            <a:ext cx="224892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057C-9ABB-4C02-8A6E-58044664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7000" y="2530440"/>
            <a:ext cx="6985080" cy="71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4496-DFA6-4379-850A-84181775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7000" y="2530440"/>
            <a:ext cx="6985080" cy="71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EFC1-BE15-4EDF-8868-20F9C0C0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7000" y="2530440"/>
            <a:ext cx="3408480" cy="71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6120" y="2530440"/>
            <a:ext cx="3408480" cy="71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4F0F-7E3D-46C5-91C2-F84448B2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072A-6A1F-4D1D-9CFA-75820692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7000" y="434520"/>
            <a:ext cx="698508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E7DC-BEAC-4388-8B75-BBA11C91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7000" y="2530440"/>
            <a:ext cx="34084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6120" y="2530440"/>
            <a:ext cx="3408480" cy="71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7000" y="6270120"/>
            <a:ext cx="34084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B24C-D2AA-45EB-AB08-B0FB08FC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7000" y="2530440"/>
            <a:ext cx="3408480" cy="71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6120" y="2530440"/>
            <a:ext cx="34084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6120" y="6270120"/>
            <a:ext cx="34084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E38A-C82A-4354-BBB4-2AB6B42D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7000" y="2530440"/>
            <a:ext cx="34084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6120" y="2530440"/>
            <a:ext cx="34084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7000" y="6270120"/>
            <a:ext cx="698508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2047-A7FC-47FD-A3C4-D7E5A908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7000" y="434520"/>
            <a:ext cx="6985080" cy="18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2530440"/>
            <a:ext cx="6985080" cy="71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7000" y="9876960"/>
            <a:ext cx="181116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1040" y="9876960"/>
            <a:ext cx="245736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60920" y="9876960"/>
            <a:ext cx="18115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7E60-081F-40DE-9931-1E4EE0D53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68520" y="225360"/>
            <a:ext cx="3429000" cy="317520"/>
          </a:xfr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ts val="13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34343"/>
                </a:solidFill>
                <a:latin typeface="Times New Roman"/>
              </a:rPr>
              <a:t>Адреса и телефоны подразделений Центра ГИМС МЧС России по Краснодарскому кра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01760" y="701640"/>
          <a:ext cx="6919920" cy="10509120"/>
        </p:xfrm>
        <a:graphic>
          <a:graphicData uri="http://schemas.openxmlformats.org/drawingml/2006/table">
            <a:tbl>
              <a:tblPr/>
              <a:tblGrid>
                <a:gridCol w="452160"/>
                <a:gridCol w="1627200"/>
                <a:gridCol w="1133640"/>
                <a:gridCol w="1590480"/>
                <a:gridCol w="586080"/>
                <a:gridCol w="1530360"/>
              </a:tblGrid>
              <a:tr h="36504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Отделения и учас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8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Старш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25320">
                        <a:lnSpc>
                          <a:spcPct val="100000"/>
                        </a:lnSpc>
                        <a:spcBef>
                          <a:spcPts val="2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Адр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3320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Служебный телеф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госинспек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Краснодар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Галушка Пав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063, г. Краснод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8-8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96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219-36-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отд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Павл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2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л. Парусная,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17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. 214-84-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4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905-4946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ЕЙСКОЕ </a:t>
                      </a: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отд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Денисен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14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3680, г. Ейск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76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56565"/>
                          </a:solidFill>
                          <a:latin typeface="Times New Roman"/>
                        </a:rPr>
                        <a:t>3-53-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Ю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33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йская к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8-918-44336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Дмитрие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ПРИМОРСК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мал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5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3890, г. Приморск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66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93-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АХТАР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Никол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5120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хтарск, ул. 50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861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90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. 2-95-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Иль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33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Октября, 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918-43546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836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ТЕМРЮК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гуль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2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3520, г. Темрю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69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5-40-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отд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Пав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л. Береговая, 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1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ександр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14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Рояли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836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СЛАВЯ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Юрчев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4616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3560, г. Славянск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63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-8-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отд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Никол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73040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на-Куба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861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Иван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85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ул. Набережная, 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396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АНАПСКИЙ </a:t>
                      </a: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учас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Стар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7144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3440, г. Ана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5728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62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Серг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1924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л. Набережная,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3192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918-37498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Алексее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836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НОВОРОССИЙ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Полон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57280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3907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8-86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205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-55-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И </a:t>
                      </a: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учас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Дмит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7144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г. Новороссий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3192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928-4051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ександр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240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ул. Первомайская,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836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ГЕЛЕНДЖИКСК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Жур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5404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346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54040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45-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Серг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74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г. Гелендж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86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51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26-15 сп.с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Владимир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л. Революционная,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2544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56565"/>
                          </a:solidFill>
                          <a:latin typeface="Times New Roman"/>
                        </a:rPr>
                        <a:t>8-961-51355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ТУАПСИ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Поп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41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2800, г. Туапс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4936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82-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отд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Михаи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л. Полетаева, 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861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2400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8-918-46044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Сергее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Г'ир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24000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918-31526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СОЧИН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Ефрем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91960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354000, г. Со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86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0976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-10-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отд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м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ул. Горького, 38, к.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1428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918-20768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Петр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604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Дима 89182020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836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ТИХОРЕЦ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Загоруй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42880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35212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36400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4-13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учас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Пав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11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г. Тихорец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861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1104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928-40709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Иван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160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ул. Энгельса, 76-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КРОПОТКИН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булгафа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36400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2130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3352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22-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Витал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60360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г. Кропотк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07800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928-43684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Валерье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9160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Артур 8918-43726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КАЛИНИН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Яриш Серг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52600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37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27040">
                        <a:lnSpc>
                          <a:spcPct val="10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2-666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Анатолье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9320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. Старовеличковск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34343"/>
                          </a:solidFill>
                          <a:latin typeface="Times New Roman"/>
                        </a:rPr>
                        <a:t>86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01680">
                        <a:lnSpc>
                          <a:spcPct val="10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918-3211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^Придорожный,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1:34:09Z</dcterms:created>
  <dc:creator>Sanya</dc:creator>
  <dc:description/>
  <dc:language>en-US</dc:language>
  <cp:lastModifiedBy>Sanya</cp:lastModifiedBy>
  <dcterms:modified xsi:type="dcterms:W3CDTF">2011-05-18T11:34:31Z</dcterms:modified>
  <cp:revision>1</cp:revision>
  <dc:subject/>
  <dc:title>Слайд 1</dc:title>
</cp:coreProperties>
</file>